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43E1-AE59-406B-A9F2-B37B2991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4A2-7FB6-4EFC-BD4E-04BB7496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4960" y="4454640"/>
            <a:ext cx="507204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is greatest*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the use of computers or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the use of compute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searching for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Federal Govern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rovincial/ Territorial Govern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*i.e., more than 50% of sites indicated a medium to high level of dem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E86-BD70-4639-9660-63EE79D4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overnment commitment to establish 10,000 CAP sites by March 31, 2001 is often re-it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t assurances being made but nothing being en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ility is a concern that the government must address - it is in the public’s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more sites are established the more sustainability becomes the only going concern - March 31, 2001 is just around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E39-A155-4BE4-A7E5-E439BF64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AE9-90E3-4D3A-BD1A-8D329A34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562-5D79-47D2-9D35-D0B8BD06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944-0AEB-4BD2-B540-D054D5B4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F55-B534-4ACE-82FA-9F35C84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2B8-FA68-4B5B-A8D1-959D2EC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32A-7FA9-4AE6-B823-BE9F1E4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5519-9B25-4180-A48A-7C79EFC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7907-CCA9-414F-862E-5275343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866B-5A4E-4CA1-AC22-CECDAA6A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7890-F6A3-42F8-8E8A-4935801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131-BBFE-448E-8742-3A9A9F8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0191-4253-46A7-8A8E-40D8137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4163-4159-42DD-829F-EBB39696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7726-C24E-4A5F-838F-9E66B9D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58DB-5A56-4D9A-A44B-32F5F638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59B-33C3-478A-B997-46182519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3DA-F7A5-49B8-BCEA-95FA85E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22B-5086-4785-AC0E-BE0B38B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324-1414-41D6-8DDA-EA43F8C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4AD-B489-426F-A1F3-9F3C9A90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875-FBC3-419E-ABCE-55CE259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92D-A628-4FC4-A995-8F0F2F0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F00-AF79-45F6-AEE5-F810246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CB4-5BE4-44DD-8819-37BD1B2CD98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5C50-7F9A-4AC1-A7DB-2E876266D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3161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f2f2fb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A5F-9313-4F06-B93C-51E1C543A963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E4CB-ED67-4284-B1E6-858BEB4B1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31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f2f2fb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6312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687400" y="4706640"/>
            <a:ext cx="444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Information Highway </a:t>
            </a:r>
            <a:br>
              <a:rPr sz="1600"/>
            </a:b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Applications Branch (IHA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Industry Ca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July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70028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557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e Community Access Program                             (C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77932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Location of CAP Si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8% of CAP Sites are located in Rural, Northern, and Remote communities and on First Nations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% of CAP Sites are located in Urban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342880" y="4188600"/>
            <a:ext cx="5113800" cy="2842920"/>
            <a:chOff x="2342880" y="4188600"/>
            <a:chExt cx="5113800" cy="2842920"/>
          </a:xfrm>
        </p:grpSpPr>
        <p:sp>
          <p:nvSpPr>
            <p:cNvPr id="134" name=""/>
            <p:cNvSpPr/>
            <p:nvPr/>
          </p:nvSpPr>
          <p:spPr>
            <a:xfrm>
              <a:off x="4599000" y="4762080"/>
              <a:ext cx="808200" cy="470880"/>
            </a:xfrm>
            <a:custGeom>
              <a:avLst/>
              <a:gdLst/>
              <a:ahLst/>
              <a:rect l="l" t="t" r="r" b="b"/>
              <a:pathLst>
                <a:path w="509" h="339">
                  <a:moveTo>
                    <a:pt x="0" y="0"/>
                  </a:moveTo>
                  <a:lnTo>
                    <a:pt x="49" y="0"/>
                  </a:lnTo>
                  <a:lnTo>
                    <a:pt x="73" y="0"/>
                  </a:lnTo>
                  <a:lnTo>
                    <a:pt x="113" y="0"/>
                  </a:lnTo>
                  <a:lnTo>
                    <a:pt x="137" y="0"/>
                  </a:lnTo>
                  <a:lnTo>
                    <a:pt x="186" y="0"/>
                  </a:lnTo>
                  <a:lnTo>
                    <a:pt x="210" y="0"/>
                  </a:lnTo>
                  <a:lnTo>
                    <a:pt x="250" y="8"/>
                  </a:lnTo>
                  <a:lnTo>
                    <a:pt x="274" y="8"/>
                  </a:lnTo>
                  <a:lnTo>
                    <a:pt x="315" y="8"/>
                  </a:lnTo>
                  <a:lnTo>
                    <a:pt x="339" y="8"/>
                  </a:lnTo>
                  <a:lnTo>
                    <a:pt x="379" y="16"/>
                  </a:lnTo>
                  <a:lnTo>
                    <a:pt x="404" y="16"/>
                  </a:lnTo>
                  <a:lnTo>
                    <a:pt x="444" y="16"/>
                  </a:lnTo>
                  <a:lnTo>
                    <a:pt x="468" y="24"/>
                  </a:lnTo>
                  <a:lnTo>
                    <a:pt x="509" y="24"/>
                  </a:lnTo>
                  <a:lnTo>
                    <a:pt x="0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f6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99000" y="4795560"/>
              <a:ext cx="1511280" cy="437400"/>
            </a:xfrm>
            <a:custGeom>
              <a:avLst/>
              <a:gdLst/>
              <a:ahLst/>
              <a:rect l="l" t="t" r="r" b="b"/>
              <a:pathLst>
                <a:path w="952" h="315">
                  <a:moveTo>
                    <a:pt x="509" y="0"/>
                  </a:moveTo>
                  <a:lnTo>
                    <a:pt x="557" y="8"/>
                  </a:lnTo>
                  <a:lnTo>
                    <a:pt x="573" y="8"/>
                  </a:lnTo>
                  <a:lnTo>
                    <a:pt x="613" y="16"/>
                  </a:lnTo>
                  <a:lnTo>
                    <a:pt x="638" y="16"/>
                  </a:lnTo>
                  <a:lnTo>
                    <a:pt x="670" y="24"/>
                  </a:lnTo>
                  <a:lnTo>
                    <a:pt x="710" y="32"/>
                  </a:lnTo>
                  <a:lnTo>
                    <a:pt x="735" y="32"/>
                  </a:lnTo>
                  <a:lnTo>
                    <a:pt x="767" y="40"/>
                  </a:lnTo>
                  <a:lnTo>
                    <a:pt x="783" y="40"/>
                  </a:lnTo>
                  <a:lnTo>
                    <a:pt x="823" y="48"/>
                  </a:lnTo>
                  <a:lnTo>
                    <a:pt x="856" y="56"/>
                  </a:lnTo>
                  <a:lnTo>
                    <a:pt x="872" y="65"/>
                  </a:lnTo>
                  <a:lnTo>
                    <a:pt x="904" y="73"/>
                  </a:lnTo>
                  <a:lnTo>
                    <a:pt x="920" y="73"/>
                  </a:lnTo>
                  <a:lnTo>
                    <a:pt x="952" y="81"/>
                  </a:lnTo>
                  <a:lnTo>
                    <a:pt x="0" y="315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3443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1320" y="4492440"/>
              <a:ext cx="217440" cy="3582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9000" y="4908240"/>
              <a:ext cx="1844640" cy="324720"/>
            </a:xfrm>
            <a:custGeom>
              <a:avLst/>
              <a:gdLst/>
              <a:ahLst/>
              <a:rect l="l" t="t" r="r" b="b"/>
              <a:pathLst>
                <a:path w="1162" h="234">
                  <a:moveTo>
                    <a:pt x="952" y="0"/>
                  </a:moveTo>
                  <a:lnTo>
                    <a:pt x="969" y="8"/>
                  </a:lnTo>
                  <a:lnTo>
                    <a:pt x="1001" y="16"/>
                  </a:lnTo>
                  <a:lnTo>
                    <a:pt x="1017" y="16"/>
                  </a:lnTo>
                  <a:lnTo>
                    <a:pt x="1033" y="24"/>
                  </a:lnTo>
                  <a:lnTo>
                    <a:pt x="1057" y="32"/>
                  </a:lnTo>
                  <a:lnTo>
                    <a:pt x="1074" y="40"/>
                  </a:lnTo>
                  <a:lnTo>
                    <a:pt x="1082" y="40"/>
                  </a:lnTo>
                  <a:lnTo>
                    <a:pt x="1106" y="48"/>
                  </a:lnTo>
                  <a:lnTo>
                    <a:pt x="1122" y="56"/>
                  </a:lnTo>
                  <a:lnTo>
                    <a:pt x="1130" y="64"/>
                  </a:lnTo>
                  <a:lnTo>
                    <a:pt x="1154" y="72"/>
                  </a:lnTo>
                  <a:lnTo>
                    <a:pt x="1162" y="80"/>
                  </a:lnTo>
                  <a:lnTo>
                    <a:pt x="0" y="234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7d0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03960" y="4941360"/>
              <a:ext cx="268560" cy="219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0"/>
                  </a:move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36920" y="5233320"/>
              <a:ext cx="192240" cy="694440"/>
            </a:xfrm>
            <a:custGeom>
              <a:avLst/>
              <a:gdLst/>
              <a:ahLst/>
              <a:rect l="l" t="t" r="r" b="b"/>
              <a:pathLst>
                <a:path w="121" h="500">
                  <a:moveTo>
                    <a:pt x="121" y="145"/>
                  </a:moveTo>
                  <a:lnTo>
                    <a:pt x="105" y="129"/>
                  </a:lnTo>
                  <a:lnTo>
                    <a:pt x="97" y="121"/>
                  </a:lnTo>
                  <a:lnTo>
                    <a:pt x="72" y="113"/>
                  </a:lnTo>
                  <a:lnTo>
                    <a:pt x="64" y="105"/>
                  </a:lnTo>
                  <a:lnTo>
                    <a:pt x="56" y="97"/>
                  </a:lnTo>
                  <a:lnTo>
                    <a:pt x="40" y="89"/>
                  </a:lnTo>
                  <a:lnTo>
                    <a:pt x="32" y="72"/>
                  </a:lnTo>
                  <a:lnTo>
                    <a:pt x="24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1"/>
                  </a:lnTo>
                  <a:lnTo>
                    <a:pt x="0" y="379"/>
                  </a:lnTo>
                  <a:lnTo>
                    <a:pt x="8" y="395"/>
                  </a:lnTo>
                  <a:lnTo>
                    <a:pt x="8" y="403"/>
                  </a:lnTo>
                  <a:lnTo>
                    <a:pt x="16" y="412"/>
                  </a:lnTo>
                  <a:lnTo>
                    <a:pt x="24" y="420"/>
                  </a:lnTo>
                  <a:lnTo>
                    <a:pt x="32" y="428"/>
                  </a:lnTo>
                  <a:lnTo>
                    <a:pt x="40" y="444"/>
                  </a:lnTo>
                  <a:lnTo>
                    <a:pt x="56" y="452"/>
                  </a:lnTo>
                  <a:lnTo>
                    <a:pt x="64" y="460"/>
                  </a:lnTo>
                  <a:lnTo>
                    <a:pt x="72" y="468"/>
                  </a:lnTo>
                  <a:lnTo>
                    <a:pt x="97" y="476"/>
                  </a:lnTo>
                  <a:lnTo>
                    <a:pt x="105" y="484"/>
                  </a:lnTo>
                  <a:lnTo>
                    <a:pt x="121" y="500"/>
                  </a:lnTo>
                  <a:lnTo>
                    <a:pt x="121" y="145"/>
                  </a:lnTo>
                  <a:close/>
                </a:path>
              </a:pathLst>
            </a:custGeom>
            <a:solidFill>
              <a:srgbClr val="7c796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36920" y="4762080"/>
              <a:ext cx="2062080" cy="672120"/>
            </a:xfrm>
            <a:custGeom>
              <a:avLst/>
              <a:gdLst/>
              <a:ahLst/>
              <a:rect l="l" t="t" r="r" b="b"/>
              <a:pathLst>
                <a:path w="1299" h="484">
                  <a:moveTo>
                    <a:pt x="121" y="484"/>
                  </a:moveTo>
                  <a:lnTo>
                    <a:pt x="105" y="468"/>
                  </a:lnTo>
                  <a:lnTo>
                    <a:pt x="97" y="460"/>
                  </a:lnTo>
                  <a:lnTo>
                    <a:pt x="72" y="452"/>
                  </a:lnTo>
                  <a:lnTo>
                    <a:pt x="64" y="444"/>
                  </a:lnTo>
                  <a:lnTo>
                    <a:pt x="56" y="436"/>
                  </a:lnTo>
                  <a:lnTo>
                    <a:pt x="40" y="428"/>
                  </a:lnTo>
                  <a:lnTo>
                    <a:pt x="32" y="411"/>
                  </a:lnTo>
                  <a:lnTo>
                    <a:pt x="24" y="403"/>
                  </a:lnTo>
                  <a:lnTo>
                    <a:pt x="16" y="395"/>
                  </a:lnTo>
                  <a:lnTo>
                    <a:pt x="8" y="387"/>
                  </a:lnTo>
                  <a:lnTo>
                    <a:pt x="8" y="379"/>
                  </a:lnTo>
                  <a:lnTo>
                    <a:pt x="0" y="363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0" y="33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0" y="307"/>
                  </a:lnTo>
                  <a:lnTo>
                    <a:pt x="8" y="298"/>
                  </a:lnTo>
                  <a:lnTo>
                    <a:pt x="8" y="290"/>
                  </a:lnTo>
                  <a:lnTo>
                    <a:pt x="16" y="274"/>
                  </a:lnTo>
                  <a:lnTo>
                    <a:pt x="24" y="266"/>
                  </a:lnTo>
                  <a:lnTo>
                    <a:pt x="32" y="258"/>
                  </a:lnTo>
                  <a:lnTo>
                    <a:pt x="40" y="250"/>
                  </a:lnTo>
                  <a:lnTo>
                    <a:pt x="56" y="234"/>
                  </a:lnTo>
                  <a:lnTo>
                    <a:pt x="64" y="234"/>
                  </a:lnTo>
                  <a:lnTo>
                    <a:pt x="72" y="218"/>
                  </a:lnTo>
                  <a:lnTo>
                    <a:pt x="97" y="210"/>
                  </a:lnTo>
                  <a:lnTo>
                    <a:pt x="105" y="202"/>
                  </a:lnTo>
                  <a:lnTo>
                    <a:pt x="121" y="194"/>
                  </a:lnTo>
                  <a:lnTo>
                    <a:pt x="137" y="185"/>
                  </a:lnTo>
                  <a:lnTo>
                    <a:pt x="153" y="177"/>
                  </a:lnTo>
                  <a:lnTo>
                    <a:pt x="169" y="169"/>
                  </a:lnTo>
                  <a:lnTo>
                    <a:pt x="193" y="153"/>
                  </a:lnTo>
                  <a:lnTo>
                    <a:pt x="210" y="153"/>
                  </a:lnTo>
                  <a:lnTo>
                    <a:pt x="234" y="145"/>
                  </a:lnTo>
                  <a:lnTo>
                    <a:pt x="258" y="129"/>
                  </a:lnTo>
                  <a:lnTo>
                    <a:pt x="274" y="129"/>
                  </a:lnTo>
                  <a:lnTo>
                    <a:pt x="306" y="121"/>
                  </a:lnTo>
                  <a:lnTo>
                    <a:pt x="331" y="113"/>
                  </a:lnTo>
                  <a:lnTo>
                    <a:pt x="347" y="105"/>
                  </a:lnTo>
                  <a:lnTo>
                    <a:pt x="379" y="97"/>
                  </a:lnTo>
                  <a:lnTo>
                    <a:pt x="411" y="89"/>
                  </a:lnTo>
                  <a:lnTo>
                    <a:pt x="427" y="89"/>
                  </a:lnTo>
                  <a:lnTo>
                    <a:pt x="460" y="80"/>
                  </a:lnTo>
                  <a:lnTo>
                    <a:pt x="500" y="72"/>
                  </a:lnTo>
                  <a:lnTo>
                    <a:pt x="516" y="64"/>
                  </a:lnTo>
                  <a:lnTo>
                    <a:pt x="557" y="56"/>
                  </a:lnTo>
                  <a:lnTo>
                    <a:pt x="589" y="56"/>
                  </a:lnTo>
                  <a:lnTo>
                    <a:pt x="613" y="48"/>
                  </a:lnTo>
                  <a:lnTo>
                    <a:pt x="645" y="40"/>
                  </a:lnTo>
                  <a:lnTo>
                    <a:pt x="686" y="40"/>
                  </a:lnTo>
                  <a:lnTo>
                    <a:pt x="710" y="32"/>
                  </a:lnTo>
                  <a:lnTo>
                    <a:pt x="750" y="32"/>
                  </a:lnTo>
                  <a:lnTo>
                    <a:pt x="791" y="24"/>
                  </a:lnTo>
                  <a:lnTo>
                    <a:pt x="815" y="24"/>
                  </a:lnTo>
                  <a:lnTo>
                    <a:pt x="855" y="16"/>
                  </a:lnTo>
                  <a:lnTo>
                    <a:pt x="896" y="16"/>
                  </a:lnTo>
                  <a:lnTo>
                    <a:pt x="920" y="16"/>
                  </a:lnTo>
                  <a:lnTo>
                    <a:pt x="960" y="8"/>
                  </a:lnTo>
                  <a:lnTo>
                    <a:pt x="1009" y="8"/>
                  </a:lnTo>
                  <a:lnTo>
                    <a:pt x="1033" y="8"/>
                  </a:lnTo>
                  <a:lnTo>
                    <a:pt x="1073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86" y="0"/>
                  </a:lnTo>
                  <a:lnTo>
                    <a:pt x="1235" y="0"/>
                  </a:lnTo>
                  <a:lnTo>
                    <a:pt x="1259" y="0"/>
                  </a:lnTo>
                  <a:lnTo>
                    <a:pt x="1299" y="0"/>
                  </a:lnTo>
                  <a:lnTo>
                    <a:pt x="1299" y="339"/>
                  </a:lnTo>
                  <a:lnTo>
                    <a:pt x="121" y="484"/>
                  </a:lnTo>
                  <a:close/>
                </a:path>
              </a:pathLst>
            </a:custGeom>
            <a:solidFill>
              <a:srgbClr val="f7f2d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9160" y="5233320"/>
              <a:ext cx="3946320" cy="963720"/>
            </a:xfrm>
            <a:custGeom>
              <a:avLst/>
              <a:gdLst/>
              <a:ahLst/>
              <a:rect l="l" t="t" r="r" b="b"/>
              <a:pathLst>
                <a:path w="2486" h="694">
                  <a:moveTo>
                    <a:pt x="2486" y="0"/>
                  </a:moveTo>
                  <a:lnTo>
                    <a:pt x="2486" y="8"/>
                  </a:lnTo>
                  <a:lnTo>
                    <a:pt x="2486" y="16"/>
                  </a:lnTo>
                  <a:lnTo>
                    <a:pt x="2477" y="24"/>
                  </a:lnTo>
                  <a:lnTo>
                    <a:pt x="2477" y="40"/>
                  </a:lnTo>
                  <a:lnTo>
                    <a:pt x="2469" y="48"/>
                  </a:lnTo>
                  <a:lnTo>
                    <a:pt x="2461" y="56"/>
                  </a:lnTo>
                  <a:lnTo>
                    <a:pt x="2453" y="64"/>
                  </a:lnTo>
                  <a:lnTo>
                    <a:pt x="2453" y="72"/>
                  </a:lnTo>
                  <a:lnTo>
                    <a:pt x="2437" y="89"/>
                  </a:lnTo>
                  <a:lnTo>
                    <a:pt x="2429" y="97"/>
                  </a:lnTo>
                  <a:lnTo>
                    <a:pt x="2421" y="105"/>
                  </a:lnTo>
                  <a:lnTo>
                    <a:pt x="2405" y="113"/>
                  </a:lnTo>
                  <a:lnTo>
                    <a:pt x="2389" y="121"/>
                  </a:lnTo>
                  <a:lnTo>
                    <a:pt x="2381" y="129"/>
                  </a:lnTo>
                  <a:lnTo>
                    <a:pt x="2364" y="145"/>
                  </a:lnTo>
                  <a:lnTo>
                    <a:pt x="2340" y="153"/>
                  </a:lnTo>
                  <a:lnTo>
                    <a:pt x="2332" y="153"/>
                  </a:lnTo>
                  <a:lnTo>
                    <a:pt x="2308" y="169"/>
                  </a:lnTo>
                  <a:lnTo>
                    <a:pt x="2284" y="177"/>
                  </a:lnTo>
                  <a:lnTo>
                    <a:pt x="2276" y="186"/>
                  </a:lnTo>
                  <a:lnTo>
                    <a:pt x="2252" y="194"/>
                  </a:lnTo>
                  <a:lnTo>
                    <a:pt x="2219" y="202"/>
                  </a:lnTo>
                  <a:lnTo>
                    <a:pt x="2211" y="210"/>
                  </a:lnTo>
                  <a:lnTo>
                    <a:pt x="2179" y="218"/>
                  </a:lnTo>
                  <a:lnTo>
                    <a:pt x="2147" y="226"/>
                  </a:lnTo>
                  <a:lnTo>
                    <a:pt x="2130" y="226"/>
                  </a:lnTo>
                  <a:lnTo>
                    <a:pt x="2098" y="234"/>
                  </a:lnTo>
                  <a:lnTo>
                    <a:pt x="2066" y="242"/>
                  </a:lnTo>
                  <a:lnTo>
                    <a:pt x="2050" y="250"/>
                  </a:lnTo>
                  <a:lnTo>
                    <a:pt x="2017" y="258"/>
                  </a:lnTo>
                  <a:lnTo>
                    <a:pt x="1985" y="266"/>
                  </a:lnTo>
                  <a:lnTo>
                    <a:pt x="1961" y="266"/>
                  </a:lnTo>
                  <a:lnTo>
                    <a:pt x="1929" y="274"/>
                  </a:lnTo>
                  <a:lnTo>
                    <a:pt x="1888" y="282"/>
                  </a:lnTo>
                  <a:lnTo>
                    <a:pt x="1872" y="282"/>
                  </a:lnTo>
                  <a:lnTo>
                    <a:pt x="1832" y="290"/>
                  </a:lnTo>
                  <a:lnTo>
                    <a:pt x="1791" y="299"/>
                  </a:lnTo>
                  <a:lnTo>
                    <a:pt x="1775" y="299"/>
                  </a:lnTo>
                  <a:lnTo>
                    <a:pt x="1735" y="307"/>
                  </a:lnTo>
                  <a:lnTo>
                    <a:pt x="1687" y="307"/>
                  </a:lnTo>
                  <a:lnTo>
                    <a:pt x="1670" y="315"/>
                  </a:lnTo>
                  <a:lnTo>
                    <a:pt x="1622" y="315"/>
                  </a:lnTo>
                  <a:lnTo>
                    <a:pt x="1582" y="323"/>
                  </a:lnTo>
                  <a:lnTo>
                    <a:pt x="1557" y="323"/>
                  </a:lnTo>
                  <a:lnTo>
                    <a:pt x="1517" y="323"/>
                  </a:lnTo>
                  <a:lnTo>
                    <a:pt x="1477" y="331"/>
                  </a:lnTo>
                  <a:lnTo>
                    <a:pt x="1452" y="331"/>
                  </a:lnTo>
                  <a:lnTo>
                    <a:pt x="1404" y="331"/>
                  </a:lnTo>
                  <a:lnTo>
                    <a:pt x="1364" y="331"/>
                  </a:lnTo>
                  <a:lnTo>
                    <a:pt x="1340" y="331"/>
                  </a:lnTo>
                  <a:lnTo>
                    <a:pt x="1291" y="339"/>
                  </a:lnTo>
                  <a:lnTo>
                    <a:pt x="1251" y="339"/>
                  </a:lnTo>
                  <a:lnTo>
                    <a:pt x="1227" y="339"/>
                  </a:lnTo>
                  <a:lnTo>
                    <a:pt x="1178" y="339"/>
                  </a:lnTo>
                  <a:lnTo>
                    <a:pt x="1138" y="339"/>
                  </a:lnTo>
                  <a:lnTo>
                    <a:pt x="1114" y="339"/>
                  </a:lnTo>
                  <a:lnTo>
                    <a:pt x="1065" y="339"/>
                  </a:lnTo>
                  <a:lnTo>
                    <a:pt x="1025" y="331"/>
                  </a:lnTo>
                  <a:lnTo>
                    <a:pt x="1001" y="331"/>
                  </a:lnTo>
                  <a:lnTo>
                    <a:pt x="952" y="331"/>
                  </a:lnTo>
                  <a:lnTo>
                    <a:pt x="912" y="331"/>
                  </a:lnTo>
                  <a:lnTo>
                    <a:pt x="888" y="331"/>
                  </a:lnTo>
                  <a:lnTo>
                    <a:pt x="839" y="323"/>
                  </a:lnTo>
                  <a:lnTo>
                    <a:pt x="799" y="323"/>
                  </a:lnTo>
                  <a:lnTo>
                    <a:pt x="775" y="323"/>
                  </a:lnTo>
                  <a:lnTo>
                    <a:pt x="734" y="315"/>
                  </a:lnTo>
                  <a:lnTo>
                    <a:pt x="694" y="315"/>
                  </a:lnTo>
                  <a:lnTo>
                    <a:pt x="670" y="307"/>
                  </a:lnTo>
                  <a:lnTo>
                    <a:pt x="629" y="307"/>
                  </a:lnTo>
                  <a:lnTo>
                    <a:pt x="589" y="299"/>
                  </a:lnTo>
                  <a:lnTo>
                    <a:pt x="565" y="299"/>
                  </a:lnTo>
                  <a:lnTo>
                    <a:pt x="524" y="290"/>
                  </a:lnTo>
                  <a:lnTo>
                    <a:pt x="492" y="282"/>
                  </a:lnTo>
                  <a:lnTo>
                    <a:pt x="468" y="282"/>
                  </a:lnTo>
                  <a:lnTo>
                    <a:pt x="436" y="274"/>
                  </a:lnTo>
                  <a:lnTo>
                    <a:pt x="395" y="266"/>
                  </a:lnTo>
                  <a:lnTo>
                    <a:pt x="379" y="266"/>
                  </a:lnTo>
                  <a:lnTo>
                    <a:pt x="339" y="258"/>
                  </a:lnTo>
                  <a:lnTo>
                    <a:pt x="306" y="250"/>
                  </a:lnTo>
                  <a:lnTo>
                    <a:pt x="290" y="242"/>
                  </a:lnTo>
                  <a:lnTo>
                    <a:pt x="258" y="234"/>
                  </a:lnTo>
                  <a:lnTo>
                    <a:pt x="226" y="226"/>
                  </a:lnTo>
                  <a:lnTo>
                    <a:pt x="210" y="226"/>
                  </a:lnTo>
                  <a:lnTo>
                    <a:pt x="185" y="218"/>
                  </a:lnTo>
                  <a:lnTo>
                    <a:pt x="153" y="210"/>
                  </a:lnTo>
                  <a:lnTo>
                    <a:pt x="137" y="202"/>
                  </a:lnTo>
                  <a:lnTo>
                    <a:pt x="113" y="194"/>
                  </a:lnTo>
                  <a:lnTo>
                    <a:pt x="89" y="186"/>
                  </a:lnTo>
                  <a:lnTo>
                    <a:pt x="72" y="177"/>
                  </a:lnTo>
                  <a:lnTo>
                    <a:pt x="48" y="169"/>
                  </a:lnTo>
                  <a:lnTo>
                    <a:pt x="32" y="153"/>
                  </a:lnTo>
                  <a:lnTo>
                    <a:pt x="16" y="153"/>
                  </a:lnTo>
                  <a:lnTo>
                    <a:pt x="0" y="145"/>
                  </a:lnTo>
                  <a:lnTo>
                    <a:pt x="0" y="500"/>
                  </a:lnTo>
                  <a:lnTo>
                    <a:pt x="16" y="508"/>
                  </a:lnTo>
                  <a:lnTo>
                    <a:pt x="32" y="508"/>
                  </a:lnTo>
                  <a:lnTo>
                    <a:pt x="48" y="525"/>
                  </a:lnTo>
                  <a:lnTo>
                    <a:pt x="72" y="533"/>
                  </a:lnTo>
                  <a:lnTo>
                    <a:pt x="89" y="541"/>
                  </a:lnTo>
                  <a:lnTo>
                    <a:pt x="113" y="549"/>
                  </a:lnTo>
                  <a:lnTo>
                    <a:pt x="137" y="557"/>
                  </a:lnTo>
                  <a:lnTo>
                    <a:pt x="153" y="565"/>
                  </a:lnTo>
                  <a:lnTo>
                    <a:pt x="185" y="573"/>
                  </a:lnTo>
                  <a:lnTo>
                    <a:pt x="210" y="581"/>
                  </a:lnTo>
                  <a:lnTo>
                    <a:pt x="226" y="581"/>
                  </a:lnTo>
                  <a:lnTo>
                    <a:pt x="258" y="589"/>
                  </a:lnTo>
                  <a:lnTo>
                    <a:pt x="290" y="597"/>
                  </a:lnTo>
                  <a:lnTo>
                    <a:pt x="306" y="605"/>
                  </a:lnTo>
                  <a:lnTo>
                    <a:pt x="339" y="613"/>
                  </a:lnTo>
                  <a:lnTo>
                    <a:pt x="379" y="621"/>
                  </a:lnTo>
                  <a:lnTo>
                    <a:pt x="395" y="621"/>
                  </a:lnTo>
                  <a:lnTo>
                    <a:pt x="436" y="630"/>
                  </a:lnTo>
                  <a:lnTo>
                    <a:pt x="468" y="638"/>
                  </a:lnTo>
                  <a:lnTo>
                    <a:pt x="492" y="638"/>
                  </a:lnTo>
                  <a:lnTo>
                    <a:pt x="524" y="646"/>
                  </a:lnTo>
                  <a:lnTo>
                    <a:pt x="565" y="654"/>
                  </a:lnTo>
                  <a:lnTo>
                    <a:pt x="589" y="654"/>
                  </a:lnTo>
                  <a:lnTo>
                    <a:pt x="629" y="662"/>
                  </a:lnTo>
                  <a:lnTo>
                    <a:pt x="670" y="662"/>
                  </a:lnTo>
                  <a:lnTo>
                    <a:pt x="694" y="670"/>
                  </a:lnTo>
                  <a:lnTo>
                    <a:pt x="734" y="670"/>
                  </a:lnTo>
                  <a:lnTo>
                    <a:pt x="775" y="678"/>
                  </a:lnTo>
                  <a:lnTo>
                    <a:pt x="799" y="678"/>
                  </a:lnTo>
                  <a:lnTo>
                    <a:pt x="839" y="678"/>
                  </a:lnTo>
                  <a:lnTo>
                    <a:pt x="888" y="686"/>
                  </a:lnTo>
                  <a:lnTo>
                    <a:pt x="912" y="686"/>
                  </a:lnTo>
                  <a:lnTo>
                    <a:pt x="952" y="686"/>
                  </a:lnTo>
                  <a:lnTo>
                    <a:pt x="1001" y="686"/>
                  </a:lnTo>
                  <a:lnTo>
                    <a:pt x="1025" y="686"/>
                  </a:lnTo>
                  <a:lnTo>
                    <a:pt x="1065" y="694"/>
                  </a:lnTo>
                  <a:lnTo>
                    <a:pt x="1114" y="694"/>
                  </a:lnTo>
                  <a:lnTo>
                    <a:pt x="1138" y="694"/>
                  </a:lnTo>
                  <a:lnTo>
                    <a:pt x="1178" y="694"/>
                  </a:lnTo>
                  <a:lnTo>
                    <a:pt x="1227" y="694"/>
                  </a:lnTo>
                  <a:lnTo>
                    <a:pt x="1251" y="694"/>
                  </a:lnTo>
                  <a:lnTo>
                    <a:pt x="1291" y="694"/>
                  </a:lnTo>
                  <a:lnTo>
                    <a:pt x="1340" y="686"/>
                  </a:lnTo>
                  <a:lnTo>
                    <a:pt x="1364" y="686"/>
                  </a:lnTo>
                  <a:lnTo>
                    <a:pt x="1404" y="686"/>
                  </a:lnTo>
                  <a:lnTo>
                    <a:pt x="1452" y="686"/>
                  </a:lnTo>
                  <a:lnTo>
                    <a:pt x="1477" y="686"/>
                  </a:lnTo>
                  <a:lnTo>
                    <a:pt x="1517" y="678"/>
                  </a:lnTo>
                  <a:lnTo>
                    <a:pt x="1557" y="678"/>
                  </a:lnTo>
                  <a:lnTo>
                    <a:pt x="1582" y="678"/>
                  </a:lnTo>
                  <a:lnTo>
                    <a:pt x="1622" y="670"/>
                  </a:lnTo>
                  <a:lnTo>
                    <a:pt x="1670" y="670"/>
                  </a:lnTo>
                  <a:lnTo>
                    <a:pt x="1687" y="662"/>
                  </a:lnTo>
                  <a:lnTo>
                    <a:pt x="1735" y="662"/>
                  </a:lnTo>
                  <a:lnTo>
                    <a:pt x="1775" y="654"/>
                  </a:lnTo>
                  <a:lnTo>
                    <a:pt x="1791" y="654"/>
                  </a:lnTo>
                  <a:lnTo>
                    <a:pt x="1832" y="646"/>
                  </a:lnTo>
                  <a:lnTo>
                    <a:pt x="1872" y="638"/>
                  </a:lnTo>
                  <a:lnTo>
                    <a:pt x="1888" y="638"/>
                  </a:lnTo>
                  <a:lnTo>
                    <a:pt x="1929" y="630"/>
                  </a:lnTo>
                  <a:lnTo>
                    <a:pt x="1961" y="621"/>
                  </a:lnTo>
                  <a:lnTo>
                    <a:pt x="1985" y="621"/>
                  </a:lnTo>
                  <a:lnTo>
                    <a:pt x="2017" y="613"/>
                  </a:lnTo>
                  <a:lnTo>
                    <a:pt x="2050" y="605"/>
                  </a:lnTo>
                  <a:lnTo>
                    <a:pt x="2066" y="597"/>
                  </a:lnTo>
                  <a:lnTo>
                    <a:pt x="2098" y="589"/>
                  </a:lnTo>
                  <a:lnTo>
                    <a:pt x="2130" y="581"/>
                  </a:lnTo>
                  <a:lnTo>
                    <a:pt x="2147" y="581"/>
                  </a:lnTo>
                  <a:lnTo>
                    <a:pt x="2179" y="573"/>
                  </a:lnTo>
                  <a:lnTo>
                    <a:pt x="2211" y="565"/>
                  </a:lnTo>
                  <a:lnTo>
                    <a:pt x="2219" y="557"/>
                  </a:lnTo>
                  <a:lnTo>
                    <a:pt x="2252" y="549"/>
                  </a:lnTo>
                  <a:lnTo>
                    <a:pt x="2276" y="541"/>
                  </a:lnTo>
                  <a:lnTo>
                    <a:pt x="2284" y="533"/>
                  </a:lnTo>
                  <a:lnTo>
                    <a:pt x="2308" y="525"/>
                  </a:lnTo>
                  <a:lnTo>
                    <a:pt x="2332" y="508"/>
                  </a:lnTo>
                  <a:lnTo>
                    <a:pt x="2340" y="508"/>
                  </a:lnTo>
                  <a:lnTo>
                    <a:pt x="2364" y="500"/>
                  </a:lnTo>
                  <a:lnTo>
                    <a:pt x="2381" y="484"/>
                  </a:lnTo>
                  <a:lnTo>
                    <a:pt x="2389" y="476"/>
                  </a:lnTo>
                  <a:lnTo>
                    <a:pt x="2405" y="468"/>
                  </a:lnTo>
                  <a:lnTo>
                    <a:pt x="2421" y="460"/>
                  </a:lnTo>
                  <a:lnTo>
                    <a:pt x="2429" y="452"/>
                  </a:lnTo>
                  <a:lnTo>
                    <a:pt x="2437" y="444"/>
                  </a:lnTo>
                  <a:lnTo>
                    <a:pt x="2453" y="428"/>
                  </a:lnTo>
                  <a:lnTo>
                    <a:pt x="2453" y="420"/>
                  </a:lnTo>
                  <a:lnTo>
                    <a:pt x="2461" y="412"/>
                  </a:lnTo>
                  <a:lnTo>
                    <a:pt x="2469" y="403"/>
                  </a:lnTo>
                  <a:lnTo>
                    <a:pt x="2477" y="395"/>
                  </a:lnTo>
                  <a:lnTo>
                    <a:pt x="2477" y="379"/>
                  </a:lnTo>
                  <a:lnTo>
                    <a:pt x="2486" y="371"/>
                  </a:lnTo>
                  <a:lnTo>
                    <a:pt x="2486" y="363"/>
                  </a:lnTo>
                  <a:lnTo>
                    <a:pt x="2486" y="355"/>
                  </a:lnTo>
                  <a:lnTo>
                    <a:pt x="2486" y="0"/>
                  </a:lnTo>
                  <a:close/>
                </a:path>
              </a:pathLst>
            </a:custGeom>
            <a:solidFill>
              <a:srgbClr val="6853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29160" y="5019120"/>
              <a:ext cx="3946320" cy="684720"/>
            </a:xfrm>
            <a:custGeom>
              <a:avLst/>
              <a:gdLst/>
              <a:ahLst/>
              <a:rect l="l" t="t" r="r" b="b"/>
              <a:pathLst>
                <a:path w="2486" h="493">
                  <a:moveTo>
                    <a:pt x="2340" y="0"/>
                  </a:moveTo>
                  <a:lnTo>
                    <a:pt x="2364" y="9"/>
                  </a:lnTo>
                  <a:lnTo>
                    <a:pt x="2373" y="17"/>
                  </a:lnTo>
                  <a:lnTo>
                    <a:pt x="2389" y="25"/>
                  </a:lnTo>
                  <a:lnTo>
                    <a:pt x="2405" y="33"/>
                  </a:lnTo>
                  <a:lnTo>
                    <a:pt x="2413" y="41"/>
                  </a:lnTo>
                  <a:lnTo>
                    <a:pt x="2429" y="49"/>
                  </a:lnTo>
                  <a:lnTo>
                    <a:pt x="2429" y="57"/>
                  </a:lnTo>
                  <a:lnTo>
                    <a:pt x="2445" y="73"/>
                  </a:lnTo>
                  <a:lnTo>
                    <a:pt x="2453" y="81"/>
                  </a:lnTo>
                  <a:lnTo>
                    <a:pt x="2461" y="89"/>
                  </a:lnTo>
                  <a:lnTo>
                    <a:pt x="2469" y="97"/>
                  </a:lnTo>
                  <a:lnTo>
                    <a:pt x="2477" y="113"/>
                  </a:lnTo>
                  <a:lnTo>
                    <a:pt x="2477" y="113"/>
                  </a:lnTo>
                  <a:lnTo>
                    <a:pt x="2477" y="130"/>
                  </a:lnTo>
                  <a:lnTo>
                    <a:pt x="2486" y="138"/>
                  </a:lnTo>
                  <a:lnTo>
                    <a:pt x="2486" y="146"/>
                  </a:lnTo>
                  <a:lnTo>
                    <a:pt x="2486" y="154"/>
                  </a:lnTo>
                  <a:lnTo>
                    <a:pt x="2486" y="170"/>
                  </a:lnTo>
                  <a:lnTo>
                    <a:pt x="2477" y="178"/>
                  </a:lnTo>
                  <a:lnTo>
                    <a:pt x="2477" y="186"/>
                  </a:lnTo>
                  <a:lnTo>
                    <a:pt x="2477" y="194"/>
                  </a:lnTo>
                  <a:lnTo>
                    <a:pt x="2469" y="202"/>
                  </a:lnTo>
                  <a:lnTo>
                    <a:pt x="2461" y="218"/>
                  </a:lnTo>
                  <a:lnTo>
                    <a:pt x="2453" y="218"/>
                  </a:lnTo>
                  <a:lnTo>
                    <a:pt x="2445" y="235"/>
                  </a:lnTo>
                  <a:lnTo>
                    <a:pt x="2429" y="243"/>
                  </a:lnTo>
                  <a:lnTo>
                    <a:pt x="2429" y="251"/>
                  </a:lnTo>
                  <a:lnTo>
                    <a:pt x="2413" y="259"/>
                  </a:lnTo>
                  <a:lnTo>
                    <a:pt x="2397" y="275"/>
                  </a:lnTo>
                  <a:lnTo>
                    <a:pt x="2389" y="275"/>
                  </a:lnTo>
                  <a:lnTo>
                    <a:pt x="2373" y="291"/>
                  </a:lnTo>
                  <a:lnTo>
                    <a:pt x="2364" y="299"/>
                  </a:lnTo>
                  <a:lnTo>
                    <a:pt x="2340" y="307"/>
                  </a:lnTo>
                  <a:lnTo>
                    <a:pt x="2324" y="315"/>
                  </a:lnTo>
                  <a:lnTo>
                    <a:pt x="2308" y="323"/>
                  </a:lnTo>
                  <a:lnTo>
                    <a:pt x="2284" y="331"/>
                  </a:lnTo>
                  <a:lnTo>
                    <a:pt x="2260" y="340"/>
                  </a:lnTo>
                  <a:lnTo>
                    <a:pt x="2252" y="348"/>
                  </a:lnTo>
                  <a:lnTo>
                    <a:pt x="2219" y="356"/>
                  </a:lnTo>
                  <a:lnTo>
                    <a:pt x="2195" y="364"/>
                  </a:lnTo>
                  <a:lnTo>
                    <a:pt x="2179" y="372"/>
                  </a:lnTo>
                  <a:lnTo>
                    <a:pt x="2147" y="380"/>
                  </a:lnTo>
                  <a:lnTo>
                    <a:pt x="2114" y="388"/>
                  </a:lnTo>
                  <a:lnTo>
                    <a:pt x="2098" y="388"/>
                  </a:lnTo>
                  <a:lnTo>
                    <a:pt x="2066" y="396"/>
                  </a:lnTo>
                  <a:lnTo>
                    <a:pt x="2050" y="404"/>
                  </a:lnTo>
                  <a:lnTo>
                    <a:pt x="2017" y="412"/>
                  </a:lnTo>
                  <a:lnTo>
                    <a:pt x="1985" y="420"/>
                  </a:lnTo>
                  <a:lnTo>
                    <a:pt x="1961" y="420"/>
                  </a:lnTo>
                  <a:lnTo>
                    <a:pt x="1929" y="428"/>
                  </a:lnTo>
                  <a:lnTo>
                    <a:pt x="1888" y="436"/>
                  </a:lnTo>
                  <a:lnTo>
                    <a:pt x="1872" y="436"/>
                  </a:lnTo>
                  <a:lnTo>
                    <a:pt x="1832" y="444"/>
                  </a:lnTo>
                  <a:lnTo>
                    <a:pt x="1791" y="453"/>
                  </a:lnTo>
                  <a:lnTo>
                    <a:pt x="1775" y="453"/>
                  </a:lnTo>
                  <a:lnTo>
                    <a:pt x="1735" y="461"/>
                  </a:lnTo>
                  <a:lnTo>
                    <a:pt x="1711" y="461"/>
                  </a:lnTo>
                  <a:lnTo>
                    <a:pt x="1670" y="469"/>
                  </a:lnTo>
                  <a:lnTo>
                    <a:pt x="1622" y="469"/>
                  </a:lnTo>
                  <a:lnTo>
                    <a:pt x="1606" y="469"/>
                  </a:lnTo>
                  <a:lnTo>
                    <a:pt x="1557" y="477"/>
                  </a:lnTo>
                  <a:lnTo>
                    <a:pt x="1517" y="477"/>
                  </a:lnTo>
                  <a:lnTo>
                    <a:pt x="1493" y="485"/>
                  </a:lnTo>
                  <a:lnTo>
                    <a:pt x="1452" y="485"/>
                  </a:lnTo>
                  <a:lnTo>
                    <a:pt x="1404" y="485"/>
                  </a:lnTo>
                  <a:lnTo>
                    <a:pt x="1388" y="485"/>
                  </a:lnTo>
                  <a:lnTo>
                    <a:pt x="1340" y="485"/>
                  </a:lnTo>
                  <a:lnTo>
                    <a:pt x="1315" y="493"/>
                  </a:lnTo>
                  <a:lnTo>
                    <a:pt x="1275" y="493"/>
                  </a:lnTo>
                  <a:lnTo>
                    <a:pt x="1227" y="493"/>
                  </a:lnTo>
                  <a:lnTo>
                    <a:pt x="1202" y="493"/>
                  </a:lnTo>
                  <a:lnTo>
                    <a:pt x="1154" y="493"/>
                  </a:lnTo>
                  <a:lnTo>
                    <a:pt x="1114" y="493"/>
                  </a:lnTo>
                  <a:lnTo>
                    <a:pt x="1089" y="493"/>
                  </a:lnTo>
                  <a:lnTo>
                    <a:pt x="1041" y="493"/>
                  </a:lnTo>
                  <a:lnTo>
                    <a:pt x="1001" y="485"/>
                  </a:lnTo>
                  <a:lnTo>
                    <a:pt x="976" y="485"/>
                  </a:lnTo>
                  <a:lnTo>
                    <a:pt x="928" y="485"/>
                  </a:lnTo>
                  <a:lnTo>
                    <a:pt x="888" y="485"/>
                  </a:lnTo>
                  <a:lnTo>
                    <a:pt x="863" y="485"/>
                  </a:lnTo>
                  <a:lnTo>
                    <a:pt x="823" y="477"/>
                  </a:lnTo>
                  <a:lnTo>
                    <a:pt x="799" y="477"/>
                  </a:lnTo>
                  <a:lnTo>
                    <a:pt x="758" y="469"/>
                  </a:lnTo>
                  <a:lnTo>
                    <a:pt x="710" y="469"/>
                  </a:lnTo>
                  <a:lnTo>
                    <a:pt x="694" y="469"/>
                  </a:lnTo>
                  <a:lnTo>
                    <a:pt x="653" y="461"/>
                  </a:lnTo>
                  <a:lnTo>
                    <a:pt x="605" y="453"/>
                  </a:lnTo>
                  <a:lnTo>
                    <a:pt x="589" y="453"/>
                  </a:lnTo>
                  <a:lnTo>
                    <a:pt x="549" y="444"/>
                  </a:lnTo>
                  <a:lnTo>
                    <a:pt x="508" y="444"/>
                  </a:lnTo>
                  <a:lnTo>
                    <a:pt x="492" y="436"/>
                  </a:lnTo>
                  <a:lnTo>
                    <a:pt x="452" y="436"/>
                  </a:lnTo>
                  <a:lnTo>
                    <a:pt x="436" y="428"/>
                  </a:lnTo>
                  <a:lnTo>
                    <a:pt x="395" y="420"/>
                  </a:lnTo>
                  <a:lnTo>
                    <a:pt x="363" y="412"/>
                  </a:lnTo>
                  <a:lnTo>
                    <a:pt x="339" y="412"/>
                  </a:lnTo>
                  <a:lnTo>
                    <a:pt x="306" y="404"/>
                  </a:lnTo>
                  <a:lnTo>
                    <a:pt x="274" y="396"/>
                  </a:lnTo>
                  <a:lnTo>
                    <a:pt x="258" y="388"/>
                  </a:lnTo>
                  <a:lnTo>
                    <a:pt x="226" y="380"/>
                  </a:lnTo>
                  <a:lnTo>
                    <a:pt x="193" y="372"/>
                  </a:lnTo>
                  <a:lnTo>
                    <a:pt x="185" y="372"/>
                  </a:lnTo>
                  <a:lnTo>
                    <a:pt x="153" y="364"/>
                  </a:lnTo>
                  <a:lnTo>
                    <a:pt x="129" y="348"/>
                  </a:lnTo>
                  <a:lnTo>
                    <a:pt x="113" y="348"/>
                  </a:lnTo>
                  <a:lnTo>
                    <a:pt x="89" y="340"/>
                  </a:lnTo>
                  <a:lnTo>
                    <a:pt x="72" y="331"/>
                  </a:lnTo>
                  <a:lnTo>
                    <a:pt x="48" y="323"/>
                  </a:lnTo>
                  <a:lnTo>
                    <a:pt x="32" y="307"/>
                  </a:lnTo>
                  <a:lnTo>
                    <a:pt x="16" y="307"/>
                  </a:lnTo>
                  <a:lnTo>
                    <a:pt x="0" y="299"/>
                  </a:lnTo>
                  <a:lnTo>
                    <a:pt x="1178" y="154"/>
                  </a:lnTo>
                  <a:lnTo>
                    <a:pt x="2340" y="0"/>
                  </a:lnTo>
                  <a:close/>
                </a:path>
              </a:pathLst>
            </a:custGeom>
            <a:solidFill>
              <a:srgbClr val="d0a6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0560" y="418860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N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94280" y="43693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74280" y="45482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32160" y="431352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th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25120" y="44924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95920" y="476208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3320" y="4941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45440" y="61970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4680" y="6376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2880" y="46717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06600" y="4851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48480" y="6735960"/>
              <a:ext cx="8082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1040" y="6758280"/>
              <a:ext cx="1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716-25E4-4C35-A1EF-A79D0F0A7DC9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5564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ype of Faci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6% of CAP Sites are located in Libra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cludes 5% in School Libra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% are located in Community/Recreational/Cultural Cent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09320" y="3977640"/>
            <a:ext cx="5159160" cy="2877120"/>
            <a:chOff x="2209320" y="3977640"/>
            <a:chExt cx="5159160" cy="2877120"/>
          </a:xfrm>
        </p:grpSpPr>
        <p:sp>
          <p:nvSpPr>
            <p:cNvPr id="159" name=""/>
            <p:cNvSpPr/>
            <p:nvPr/>
          </p:nvSpPr>
          <p:spPr>
            <a:xfrm>
              <a:off x="4335480" y="4564800"/>
              <a:ext cx="545400" cy="465120"/>
            </a:xfrm>
            <a:custGeom>
              <a:avLst/>
              <a:gdLst/>
              <a:ahLst/>
              <a:rect l="l" t="t" r="r" b="b"/>
              <a:pathLst>
                <a:path w="344" h="321">
                  <a:moveTo>
                    <a:pt x="0" y="7"/>
                  </a:moveTo>
                  <a:lnTo>
                    <a:pt x="23" y="7"/>
                  </a:lnTo>
                  <a:lnTo>
                    <a:pt x="61" y="7"/>
                  </a:lnTo>
                  <a:lnTo>
                    <a:pt x="84" y="7"/>
                  </a:lnTo>
                  <a:lnTo>
                    <a:pt x="107" y="7"/>
                  </a:lnTo>
                  <a:lnTo>
                    <a:pt x="153" y="0"/>
                  </a:lnTo>
                  <a:lnTo>
                    <a:pt x="168" y="0"/>
                  </a:lnTo>
                  <a:lnTo>
                    <a:pt x="191" y="0"/>
                  </a:lnTo>
                  <a:lnTo>
                    <a:pt x="237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21" y="0"/>
                  </a:lnTo>
                  <a:lnTo>
                    <a:pt x="344" y="0"/>
                  </a:lnTo>
                  <a:lnTo>
                    <a:pt x="344" y="3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79e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5800" y="4574880"/>
              <a:ext cx="1225080" cy="455040"/>
            </a:xfrm>
            <a:custGeom>
              <a:avLst/>
              <a:gdLst/>
              <a:ahLst/>
              <a:rect l="l" t="t" r="r" b="b"/>
              <a:pathLst>
                <a:path w="772" h="314">
                  <a:moveTo>
                    <a:pt x="0" y="62"/>
                  </a:moveTo>
                  <a:lnTo>
                    <a:pt x="16" y="54"/>
                  </a:lnTo>
                  <a:lnTo>
                    <a:pt x="54" y="46"/>
                  </a:lnTo>
                  <a:lnTo>
                    <a:pt x="69" y="46"/>
                  </a:lnTo>
                  <a:lnTo>
                    <a:pt x="107" y="39"/>
                  </a:lnTo>
                  <a:lnTo>
                    <a:pt x="130" y="39"/>
                  </a:lnTo>
                  <a:lnTo>
                    <a:pt x="161" y="31"/>
                  </a:lnTo>
                  <a:lnTo>
                    <a:pt x="184" y="31"/>
                  </a:lnTo>
                  <a:lnTo>
                    <a:pt x="222" y="23"/>
                  </a:lnTo>
                  <a:lnTo>
                    <a:pt x="245" y="23"/>
                  </a:lnTo>
                  <a:lnTo>
                    <a:pt x="283" y="16"/>
                  </a:lnTo>
                  <a:lnTo>
                    <a:pt x="306" y="16"/>
                  </a:lnTo>
                  <a:lnTo>
                    <a:pt x="344" y="8"/>
                  </a:lnTo>
                  <a:lnTo>
                    <a:pt x="367" y="8"/>
                  </a:lnTo>
                  <a:lnTo>
                    <a:pt x="405" y="8"/>
                  </a:lnTo>
                  <a:lnTo>
                    <a:pt x="428" y="0"/>
                  </a:lnTo>
                  <a:lnTo>
                    <a:pt x="772" y="31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d0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65320" y="4664880"/>
              <a:ext cx="1915560" cy="365400"/>
            </a:xfrm>
            <a:custGeom>
              <a:avLst/>
              <a:gdLst/>
              <a:ahLst/>
              <a:rect l="l" t="t" r="r" b="b"/>
              <a:pathLst>
                <a:path w="1207" h="252">
                  <a:moveTo>
                    <a:pt x="0" y="168"/>
                  </a:moveTo>
                  <a:lnTo>
                    <a:pt x="15" y="152"/>
                  </a:lnTo>
                  <a:lnTo>
                    <a:pt x="23" y="145"/>
                  </a:lnTo>
                  <a:lnTo>
                    <a:pt x="38" y="137"/>
                  </a:lnTo>
                  <a:lnTo>
                    <a:pt x="46" y="130"/>
                  </a:lnTo>
                  <a:lnTo>
                    <a:pt x="61" y="122"/>
                  </a:lnTo>
                  <a:lnTo>
                    <a:pt x="69" y="114"/>
                  </a:lnTo>
                  <a:lnTo>
                    <a:pt x="92" y="107"/>
                  </a:lnTo>
                  <a:lnTo>
                    <a:pt x="99" y="99"/>
                  </a:lnTo>
                  <a:lnTo>
                    <a:pt x="122" y="91"/>
                  </a:lnTo>
                  <a:lnTo>
                    <a:pt x="130" y="84"/>
                  </a:lnTo>
                  <a:lnTo>
                    <a:pt x="153" y="76"/>
                  </a:lnTo>
                  <a:lnTo>
                    <a:pt x="168" y="68"/>
                  </a:lnTo>
                  <a:lnTo>
                    <a:pt x="191" y="61"/>
                  </a:lnTo>
                  <a:lnTo>
                    <a:pt x="206" y="61"/>
                  </a:lnTo>
                  <a:lnTo>
                    <a:pt x="229" y="53"/>
                  </a:lnTo>
                  <a:lnTo>
                    <a:pt x="244" y="45"/>
                  </a:lnTo>
                  <a:lnTo>
                    <a:pt x="275" y="38"/>
                  </a:lnTo>
                  <a:lnTo>
                    <a:pt x="290" y="30"/>
                  </a:lnTo>
                  <a:lnTo>
                    <a:pt x="321" y="23"/>
                  </a:lnTo>
                  <a:lnTo>
                    <a:pt x="336" y="23"/>
                  </a:lnTo>
                  <a:lnTo>
                    <a:pt x="367" y="15"/>
                  </a:lnTo>
                  <a:lnTo>
                    <a:pt x="382" y="7"/>
                  </a:lnTo>
                  <a:lnTo>
                    <a:pt x="420" y="0"/>
                  </a:lnTo>
                  <a:lnTo>
                    <a:pt x="435" y="0"/>
                  </a:lnTo>
                  <a:lnTo>
                    <a:pt x="1207" y="25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443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8720" y="5030280"/>
              <a:ext cx="472680" cy="808560"/>
            </a:xfrm>
            <a:custGeom>
              <a:avLst/>
              <a:gdLst/>
              <a:ahLst/>
              <a:rect l="l" t="t" r="r" b="b"/>
              <a:pathLst>
                <a:path w="298" h="558">
                  <a:moveTo>
                    <a:pt x="298" y="0"/>
                  </a:moveTo>
                  <a:lnTo>
                    <a:pt x="298" y="15"/>
                  </a:lnTo>
                  <a:lnTo>
                    <a:pt x="298" y="15"/>
                  </a:lnTo>
                  <a:lnTo>
                    <a:pt x="291" y="30"/>
                  </a:lnTo>
                  <a:lnTo>
                    <a:pt x="291" y="38"/>
                  </a:lnTo>
                  <a:lnTo>
                    <a:pt x="283" y="46"/>
                  </a:lnTo>
                  <a:lnTo>
                    <a:pt x="275" y="61"/>
                  </a:lnTo>
                  <a:lnTo>
                    <a:pt x="268" y="69"/>
                  </a:lnTo>
                  <a:lnTo>
                    <a:pt x="268" y="76"/>
                  </a:lnTo>
                  <a:lnTo>
                    <a:pt x="252" y="84"/>
                  </a:lnTo>
                  <a:lnTo>
                    <a:pt x="245" y="99"/>
                  </a:lnTo>
                  <a:lnTo>
                    <a:pt x="237" y="99"/>
                  </a:lnTo>
                  <a:lnTo>
                    <a:pt x="222" y="114"/>
                  </a:lnTo>
                  <a:lnTo>
                    <a:pt x="207" y="122"/>
                  </a:lnTo>
                  <a:lnTo>
                    <a:pt x="199" y="130"/>
                  </a:lnTo>
                  <a:lnTo>
                    <a:pt x="176" y="137"/>
                  </a:lnTo>
                  <a:lnTo>
                    <a:pt x="161" y="153"/>
                  </a:lnTo>
                  <a:lnTo>
                    <a:pt x="145" y="153"/>
                  </a:lnTo>
                  <a:lnTo>
                    <a:pt x="130" y="168"/>
                  </a:lnTo>
                  <a:lnTo>
                    <a:pt x="107" y="175"/>
                  </a:lnTo>
                  <a:lnTo>
                    <a:pt x="92" y="175"/>
                  </a:lnTo>
                  <a:lnTo>
                    <a:pt x="69" y="191"/>
                  </a:lnTo>
                  <a:lnTo>
                    <a:pt x="46" y="198"/>
                  </a:lnTo>
                  <a:lnTo>
                    <a:pt x="31" y="198"/>
                  </a:lnTo>
                  <a:lnTo>
                    <a:pt x="0" y="214"/>
                  </a:lnTo>
                  <a:lnTo>
                    <a:pt x="0" y="558"/>
                  </a:lnTo>
                  <a:lnTo>
                    <a:pt x="31" y="542"/>
                  </a:lnTo>
                  <a:lnTo>
                    <a:pt x="46" y="542"/>
                  </a:lnTo>
                  <a:lnTo>
                    <a:pt x="69" y="535"/>
                  </a:lnTo>
                  <a:lnTo>
                    <a:pt x="92" y="519"/>
                  </a:lnTo>
                  <a:lnTo>
                    <a:pt x="107" y="519"/>
                  </a:lnTo>
                  <a:lnTo>
                    <a:pt x="130" y="512"/>
                  </a:lnTo>
                  <a:lnTo>
                    <a:pt x="145" y="496"/>
                  </a:lnTo>
                  <a:lnTo>
                    <a:pt x="161" y="496"/>
                  </a:lnTo>
                  <a:lnTo>
                    <a:pt x="176" y="481"/>
                  </a:lnTo>
                  <a:lnTo>
                    <a:pt x="199" y="473"/>
                  </a:lnTo>
                  <a:lnTo>
                    <a:pt x="207" y="466"/>
                  </a:lnTo>
                  <a:lnTo>
                    <a:pt x="222" y="458"/>
                  </a:lnTo>
                  <a:lnTo>
                    <a:pt x="237" y="443"/>
                  </a:lnTo>
                  <a:lnTo>
                    <a:pt x="245" y="443"/>
                  </a:lnTo>
                  <a:lnTo>
                    <a:pt x="252" y="428"/>
                  </a:lnTo>
                  <a:lnTo>
                    <a:pt x="268" y="420"/>
                  </a:lnTo>
                  <a:lnTo>
                    <a:pt x="268" y="412"/>
                  </a:lnTo>
                  <a:lnTo>
                    <a:pt x="275" y="405"/>
                  </a:lnTo>
                  <a:lnTo>
                    <a:pt x="283" y="389"/>
                  </a:lnTo>
                  <a:lnTo>
                    <a:pt x="291" y="382"/>
                  </a:lnTo>
                  <a:lnTo>
                    <a:pt x="291" y="374"/>
                  </a:lnTo>
                  <a:lnTo>
                    <a:pt x="298" y="359"/>
                  </a:lnTo>
                  <a:lnTo>
                    <a:pt x="298" y="359"/>
                  </a:lnTo>
                  <a:lnTo>
                    <a:pt x="298" y="34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418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1240" y="4564800"/>
              <a:ext cx="2000160" cy="775080"/>
            </a:xfrm>
            <a:custGeom>
              <a:avLst/>
              <a:gdLst/>
              <a:ahLst/>
              <a:rect l="l" t="t" r="r" b="b"/>
              <a:pathLst>
                <a:path w="1260" h="535">
                  <a:moveTo>
                    <a:pt x="0" y="0"/>
                  </a:moveTo>
                  <a:lnTo>
                    <a:pt x="46" y="0"/>
                  </a:lnTo>
                  <a:lnTo>
                    <a:pt x="69" y="0"/>
                  </a:lnTo>
                  <a:lnTo>
                    <a:pt x="114" y="0"/>
                  </a:lnTo>
                  <a:lnTo>
                    <a:pt x="153" y="0"/>
                  </a:lnTo>
                  <a:lnTo>
                    <a:pt x="176" y="0"/>
                  </a:lnTo>
                  <a:lnTo>
                    <a:pt x="221" y="0"/>
                  </a:lnTo>
                  <a:lnTo>
                    <a:pt x="260" y="7"/>
                  </a:lnTo>
                  <a:lnTo>
                    <a:pt x="282" y="7"/>
                  </a:lnTo>
                  <a:lnTo>
                    <a:pt x="328" y="7"/>
                  </a:lnTo>
                  <a:lnTo>
                    <a:pt x="367" y="15"/>
                  </a:lnTo>
                  <a:lnTo>
                    <a:pt x="389" y="15"/>
                  </a:lnTo>
                  <a:lnTo>
                    <a:pt x="435" y="15"/>
                  </a:lnTo>
                  <a:lnTo>
                    <a:pt x="473" y="23"/>
                  </a:lnTo>
                  <a:lnTo>
                    <a:pt x="496" y="23"/>
                  </a:lnTo>
                  <a:lnTo>
                    <a:pt x="535" y="30"/>
                  </a:lnTo>
                  <a:lnTo>
                    <a:pt x="573" y="30"/>
                  </a:lnTo>
                  <a:lnTo>
                    <a:pt x="588" y="38"/>
                  </a:lnTo>
                  <a:lnTo>
                    <a:pt x="634" y="38"/>
                  </a:lnTo>
                  <a:lnTo>
                    <a:pt x="664" y="46"/>
                  </a:lnTo>
                  <a:lnTo>
                    <a:pt x="687" y="53"/>
                  </a:lnTo>
                  <a:lnTo>
                    <a:pt x="726" y="53"/>
                  </a:lnTo>
                  <a:lnTo>
                    <a:pt x="756" y="61"/>
                  </a:lnTo>
                  <a:lnTo>
                    <a:pt x="779" y="69"/>
                  </a:lnTo>
                  <a:lnTo>
                    <a:pt x="810" y="76"/>
                  </a:lnTo>
                  <a:lnTo>
                    <a:pt x="840" y="84"/>
                  </a:lnTo>
                  <a:lnTo>
                    <a:pt x="855" y="84"/>
                  </a:lnTo>
                  <a:lnTo>
                    <a:pt x="894" y="92"/>
                  </a:lnTo>
                  <a:lnTo>
                    <a:pt x="924" y="99"/>
                  </a:lnTo>
                  <a:lnTo>
                    <a:pt x="932" y="107"/>
                  </a:lnTo>
                  <a:lnTo>
                    <a:pt x="962" y="114"/>
                  </a:lnTo>
                  <a:lnTo>
                    <a:pt x="993" y="122"/>
                  </a:lnTo>
                  <a:lnTo>
                    <a:pt x="1008" y="130"/>
                  </a:lnTo>
                  <a:lnTo>
                    <a:pt x="1031" y="137"/>
                  </a:lnTo>
                  <a:lnTo>
                    <a:pt x="1054" y="145"/>
                  </a:lnTo>
                  <a:lnTo>
                    <a:pt x="1069" y="153"/>
                  </a:lnTo>
                  <a:lnTo>
                    <a:pt x="1092" y="160"/>
                  </a:lnTo>
                  <a:lnTo>
                    <a:pt x="1107" y="168"/>
                  </a:lnTo>
                  <a:lnTo>
                    <a:pt x="1123" y="176"/>
                  </a:lnTo>
                  <a:lnTo>
                    <a:pt x="1138" y="183"/>
                  </a:lnTo>
                  <a:lnTo>
                    <a:pt x="1161" y="199"/>
                  </a:lnTo>
                  <a:lnTo>
                    <a:pt x="1169" y="199"/>
                  </a:lnTo>
                  <a:lnTo>
                    <a:pt x="1184" y="214"/>
                  </a:lnTo>
                  <a:lnTo>
                    <a:pt x="1199" y="221"/>
                  </a:lnTo>
                  <a:lnTo>
                    <a:pt x="1207" y="229"/>
                  </a:lnTo>
                  <a:lnTo>
                    <a:pt x="1214" y="237"/>
                  </a:lnTo>
                  <a:lnTo>
                    <a:pt x="1230" y="252"/>
                  </a:lnTo>
                  <a:lnTo>
                    <a:pt x="1230" y="252"/>
                  </a:lnTo>
                  <a:lnTo>
                    <a:pt x="1237" y="267"/>
                  </a:lnTo>
                  <a:lnTo>
                    <a:pt x="1245" y="275"/>
                  </a:lnTo>
                  <a:lnTo>
                    <a:pt x="1253" y="283"/>
                  </a:lnTo>
                  <a:lnTo>
                    <a:pt x="1253" y="298"/>
                  </a:lnTo>
                  <a:lnTo>
                    <a:pt x="1260" y="305"/>
                  </a:lnTo>
                  <a:lnTo>
                    <a:pt x="1260" y="313"/>
                  </a:lnTo>
                  <a:lnTo>
                    <a:pt x="1260" y="321"/>
                  </a:lnTo>
                  <a:lnTo>
                    <a:pt x="1260" y="336"/>
                  </a:lnTo>
                  <a:lnTo>
                    <a:pt x="1260" y="336"/>
                  </a:lnTo>
                  <a:lnTo>
                    <a:pt x="1253" y="351"/>
                  </a:lnTo>
                  <a:lnTo>
                    <a:pt x="1253" y="359"/>
                  </a:lnTo>
                  <a:lnTo>
                    <a:pt x="1245" y="367"/>
                  </a:lnTo>
                  <a:lnTo>
                    <a:pt x="1237" y="382"/>
                  </a:lnTo>
                  <a:lnTo>
                    <a:pt x="1230" y="390"/>
                  </a:lnTo>
                  <a:lnTo>
                    <a:pt x="1230" y="397"/>
                  </a:lnTo>
                  <a:lnTo>
                    <a:pt x="1214" y="405"/>
                  </a:lnTo>
                  <a:lnTo>
                    <a:pt x="1207" y="420"/>
                  </a:lnTo>
                  <a:lnTo>
                    <a:pt x="1199" y="420"/>
                  </a:lnTo>
                  <a:lnTo>
                    <a:pt x="1184" y="435"/>
                  </a:lnTo>
                  <a:lnTo>
                    <a:pt x="1169" y="443"/>
                  </a:lnTo>
                  <a:lnTo>
                    <a:pt x="1161" y="451"/>
                  </a:lnTo>
                  <a:lnTo>
                    <a:pt x="1138" y="458"/>
                  </a:lnTo>
                  <a:lnTo>
                    <a:pt x="1123" y="474"/>
                  </a:lnTo>
                  <a:lnTo>
                    <a:pt x="1107" y="474"/>
                  </a:lnTo>
                  <a:lnTo>
                    <a:pt x="1092" y="489"/>
                  </a:lnTo>
                  <a:lnTo>
                    <a:pt x="1069" y="496"/>
                  </a:lnTo>
                  <a:lnTo>
                    <a:pt x="1054" y="496"/>
                  </a:lnTo>
                  <a:lnTo>
                    <a:pt x="1031" y="512"/>
                  </a:lnTo>
                  <a:lnTo>
                    <a:pt x="1008" y="519"/>
                  </a:lnTo>
                  <a:lnTo>
                    <a:pt x="993" y="519"/>
                  </a:lnTo>
                  <a:lnTo>
                    <a:pt x="962" y="535"/>
                  </a:lnTo>
                  <a:lnTo>
                    <a:pt x="0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f6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2240" y="5030280"/>
              <a:ext cx="655200" cy="851760"/>
            </a:xfrm>
            <a:custGeom>
              <a:avLst/>
              <a:gdLst/>
              <a:ahLst/>
              <a:rect l="l" t="t" r="r" b="b"/>
              <a:pathLst>
                <a:path w="413" h="588">
                  <a:moveTo>
                    <a:pt x="413" y="244"/>
                  </a:moveTo>
                  <a:lnTo>
                    <a:pt x="382" y="237"/>
                  </a:lnTo>
                  <a:lnTo>
                    <a:pt x="367" y="229"/>
                  </a:lnTo>
                  <a:lnTo>
                    <a:pt x="336" y="221"/>
                  </a:lnTo>
                  <a:lnTo>
                    <a:pt x="321" y="221"/>
                  </a:lnTo>
                  <a:lnTo>
                    <a:pt x="290" y="214"/>
                  </a:lnTo>
                  <a:lnTo>
                    <a:pt x="267" y="198"/>
                  </a:lnTo>
                  <a:lnTo>
                    <a:pt x="252" y="198"/>
                  </a:lnTo>
                  <a:lnTo>
                    <a:pt x="229" y="191"/>
                  </a:lnTo>
                  <a:lnTo>
                    <a:pt x="214" y="183"/>
                  </a:lnTo>
                  <a:lnTo>
                    <a:pt x="191" y="175"/>
                  </a:lnTo>
                  <a:lnTo>
                    <a:pt x="168" y="168"/>
                  </a:lnTo>
                  <a:lnTo>
                    <a:pt x="153" y="160"/>
                  </a:lnTo>
                  <a:lnTo>
                    <a:pt x="138" y="153"/>
                  </a:lnTo>
                  <a:lnTo>
                    <a:pt x="122" y="145"/>
                  </a:lnTo>
                  <a:lnTo>
                    <a:pt x="107" y="137"/>
                  </a:lnTo>
                  <a:lnTo>
                    <a:pt x="92" y="122"/>
                  </a:lnTo>
                  <a:lnTo>
                    <a:pt x="84" y="114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46" y="91"/>
                  </a:lnTo>
                  <a:lnTo>
                    <a:pt x="38" y="84"/>
                  </a:lnTo>
                  <a:lnTo>
                    <a:pt x="31" y="76"/>
                  </a:lnTo>
                  <a:lnTo>
                    <a:pt x="23" y="61"/>
                  </a:lnTo>
                  <a:lnTo>
                    <a:pt x="15" y="61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0" y="359"/>
                  </a:lnTo>
                  <a:lnTo>
                    <a:pt x="0" y="359"/>
                  </a:lnTo>
                  <a:lnTo>
                    <a:pt x="0" y="374"/>
                  </a:lnTo>
                  <a:lnTo>
                    <a:pt x="8" y="382"/>
                  </a:lnTo>
                  <a:lnTo>
                    <a:pt x="8" y="389"/>
                  </a:lnTo>
                  <a:lnTo>
                    <a:pt x="15" y="405"/>
                  </a:lnTo>
                  <a:lnTo>
                    <a:pt x="23" y="405"/>
                  </a:lnTo>
                  <a:lnTo>
                    <a:pt x="31" y="420"/>
                  </a:lnTo>
                  <a:lnTo>
                    <a:pt x="38" y="428"/>
                  </a:lnTo>
                  <a:lnTo>
                    <a:pt x="46" y="435"/>
                  </a:lnTo>
                  <a:lnTo>
                    <a:pt x="61" y="443"/>
                  </a:lnTo>
                  <a:lnTo>
                    <a:pt x="69" y="451"/>
                  </a:lnTo>
                  <a:lnTo>
                    <a:pt x="84" y="458"/>
                  </a:lnTo>
                  <a:lnTo>
                    <a:pt x="92" y="466"/>
                  </a:lnTo>
                  <a:lnTo>
                    <a:pt x="107" y="481"/>
                  </a:lnTo>
                  <a:lnTo>
                    <a:pt x="122" y="489"/>
                  </a:lnTo>
                  <a:lnTo>
                    <a:pt x="138" y="496"/>
                  </a:lnTo>
                  <a:lnTo>
                    <a:pt x="153" y="504"/>
                  </a:lnTo>
                  <a:lnTo>
                    <a:pt x="168" y="512"/>
                  </a:lnTo>
                  <a:lnTo>
                    <a:pt x="191" y="519"/>
                  </a:lnTo>
                  <a:lnTo>
                    <a:pt x="214" y="527"/>
                  </a:lnTo>
                  <a:lnTo>
                    <a:pt x="229" y="535"/>
                  </a:lnTo>
                  <a:lnTo>
                    <a:pt x="252" y="542"/>
                  </a:lnTo>
                  <a:lnTo>
                    <a:pt x="267" y="542"/>
                  </a:lnTo>
                  <a:lnTo>
                    <a:pt x="290" y="558"/>
                  </a:lnTo>
                  <a:lnTo>
                    <a:pt x="321" y="565"/>
                  </a:lnTo>
                  <a:lnTo>
                    <a:pt x="336" y="565"/>
                  </a:lnTo>
                  <a:lnTo>
                    <a:pt x="367" y="573"/>
                  </a:lnTo>
                  <a:lnTo>
                    <a:pt x="382" y="580"/>
                  </a:lnTo>
                  <a:lnTo>
                    <a:pt x="413" y="588"/>
                  </a:lnTo>
                  <a:lnTo>
                    <a:pt x="413" y="244"/>
                  </a:lnTo>
                  <a:close/>
                </a:path>
              </a:pathLst>
            </a:custGeom>
            <a:solidFill>
              <a:srgbClr val="7c796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2240" y="4908240"/>
              <a:ext cx="1988640" cy="475200"/>
            </a:xfrm>
            <a:custGeom>
              <a:avLst/>
              <a:gdLst/>
              <a:ahLst/>
              <a:rect l="l" t="t" r="r" b="b"/>
              <a:pathLst>
                <a:path w="1253" h="328">
                  <a:moveTo>
                    <a:pt x="413" y="328"/>
                  </a:moveTo>
                  <a:lnTo>
                    <a:pt x="382" y="321"/>
                  </a:lnTo>
                  <a:lnTo>
                    <a:pt x="367" y="313"/>
                  </a:lnTo>
                  <a:lnTo>
                    <a:pt x="336" y="305"/>
                  </a:lnTo>
                  <a:lnTo>
                    <a:pt x="306" y="298"/>
                  </a:lnTo>
                  <a:lnTo>
                    <a:pt x="290" y="298"/>
                  </a:lnTo>
                  <a:lnTo>
                    <a:pt x="267" y="282"/>
                  </a:lnTo>
                  <a:lnTo>
                    <a:pt x="252" y="282"/>
                  </a:lnTo>
                  <a:lnTo>
                    <a:pt x="229" y="275"/>
                  </a:lnTo>
                  <a:lnTo>
                    <a:pt x="199" y="259"/>
                  </a:lnTo>
                  <a:lnTo>
                    <a:pt x="191" y="259"/>
                  </a:lnTo>
                  <a:lnTo>
                    <a:pt x="168" y="252"/>
                  </a:lnTo>
                  <a:lnTo>
                    <a:pt x="145" y="237"/>
                  </a:lnTo>
                  <a:lnTo>
                    <a:pt x="138" y="237"/>
                  </a:lnTo>
                  <a:lnTo>
                    <a:pt x="115" y="221"/>
                  </a:lnTo>
                  <a:lnTo>
                    <a:pt x="99" y="214"/>
                  </a:lnTo>
                  <a:lnTo>
                    <a:pt x="92" y="206"/>
                  </a:lnTo>
                  <a:lnTo>
                    <a:pt x="76" y="198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23" y="153"/>
                  </a:lnTo>
                  <a:lnTo>
                    <a:pt x="15" y="145"/>
                  </a:lnTo>
                  <a:lnTo>
                    <a:pt x="15" y="137"/>
                  </a:lnTo>
                  <a:lnTo>
                    <a:pt x="8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1253" y="84"/>
                  </a:lnTo>
                  <a:lnTo>
                    <a:pt x="413" y="328"/>
                  </a:lnTo>
                  <a:close/>
                </a:path>
              </a:pathLst>
            </a:custGeom>
            <a:solidFill>
              <a:srgbClr val="f7f2d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7800" y="5340240"/>
              <a:ext cx="2860560" cy="663840"/>
            </a:xfrm>
            <a:custGeom>
              <a:avLst/>
              <a:gdLst/>
              <a:ahLst/>
              <a:rect l="l" t="t" r="r" b="b"/>
              <a:pathLst>
                <a:path w="1802" h="458">
                  <a:moveTo>
                    <a:pt x="1802" y="0"/>
                  </a:moveTo>
                  <a:lnTo>
                    <a:pt x="1772" y="7"/>
                  </a:lnTo>
                  <a:lnTo>
                    <a:pt x="1764" y="7"/>
                  </a:lnTo>
                  <a:lnTo>
                    <a:pt x="1734" y="15"/>
                  </a:lnTo>
                  <a:lnTo>
                    <a:pt x="1718" y="23"/>
                  </a:lnTo>
                  <a:lnTo>
                    <a:pt x="1680" y="30"/>
                  </a:lnTo>
                  <a:lnTo>
                    <a:pt x="1650" y="38"/>
                  </a:lnTo>
                  <a:lnTo>
                    <a:pt x="1634" y="38"/>
                  </a:lnTo>
                  <a:lnTo>
                    <a:pt x="1596" y="46"/>
                  </a:lnTo>
                  <a:lnTo>
                    <a:pt x="1566" y="53"/>
                  </a:lnTo>
                  <a:lnTo>
                    <a:pt x="1543" y="53"/>
                  </a:lnTo>
                  <a:lnTo>
                    <a:pt x="1504" y="61"/>
                  </a:lnTo>
                  <a:lnTo>
                    <a:pt x="1489" y="68"/>
                  </a:lnTo>
                  <a:lnTo>
                    <a:pt x="1451" y="68"/>
                  </a:lnTo>
                  <a:lnTo>
                    <a:pt x="1413" y="76"/>
                  </a:lnTo>
                  <a:lnTo>
                    <a:pt x="1390" y="76"/>
                  </a:lnTo>
                  <a:lnTo>
                    <a:pt x="1352" y="84"/>
                  </a:lnTo>
                  <a:lnTo>
                    <a:pt x="1336" y="84"/>
                  </a:lnTo>
                  <a:lnTo>
                    <a:pt x="1291" y="91"/>
                  </a:lnTo>
                  <a:lnTo>
                    <a:pt x="1252" y="91"/>
                  </a:lnTo>
                  <a:lnTo>
                    <a:pt x="1229" y="99"/>
                  </a:lnTo>
                  <a:lnTo>
                    <a:pt x="1191" y="99"/>
                  </a:lnTo>
                  <a:lnTo>
                    <a:pt x="1145" y="99"/>
                  </a:lnTo>
                  <a:lnTo>
                    <a:pt x="1122" y="107"/>
                  </a:lnTo>
                  <a:lnTo>
                    <a:pt x="1084" y="107"/>
                  </a:lnTo>
                  <a:lnTo>
                    <a:pt x="1061" y="107"/>
                  </a:lnTo>
                  <a:lnTo>
                    <a:pt x="1016" y="107"/>
                  </a:lnTo>
                  <a:lnTo>
                    <a:pt x="970" y="114"/>
                  </a:lnTo>
                  <a:lnTo>
                    <a:pt x="954" y="114"/>
                  </a:lnTo>
                  <a:lnTo>
                    <a:pt x="909" y="114"/>
                  </a:lnTo>
                  <a:lnTo>
                    <a:pt x="886" y="114"/>
                  </a:lnTo>
                  <a:lnTo>
                    <a:pt x="840" y="114"/>
                  </a:lnTo>
                  <a:lnTo>
                    <a:pt x="802" y="114"/>
                  </a:lnTo>
                  <a:lnTo>
                    <a:pt x="779" y="114"/>
                  </a:lnTo>
                  <a:lnTo>
                    <a:pt x="733" y="114"/>
                  </a:lnTo>
                  <a:lnTo>
                    <a:pt x="710" y="114"/>
                  </a:lnTo>
                  <a:lnTo>
                    <a:pt x="664" y="107"/>
                  </a:lnTo>
                  <a:lnTo>
                    <a:pt x="626" y="107"/>
                  </a:lnTo>
                  <a:lnTo>
                    <a:pt x="603" y="107"/>
                  </a:lnTo>
                  <a:lnTo>
                    <a:pt x="557" y="107"/>
                  </a:lnTo>
                  <a:lnTo>
                    <a:pt x="519" y="99"/>
                  </a:lnTo>
                  <a:lnTo>
                    <a:pt x="496" y="99"/>
                  </a:lnTo>
                  <a:lnTo>
                    <a:pt x="450" y="99"/>
                  </a:lnTo>
                  <a:lnTo>
                    <a:pt x="435" y="91"/>
                  </a:lnTo>
                  <a:lnTo>
                    <a:pt x="389" y="91"/>
                  </a:lnTo>
                  <a:lnTo>
                    <a:pt x="351" y="84"/>
                  </a:lnTo>
                  <a:lnTo>
                    <a:pt x="328" y="84"/>
                  </a:lnTo>
                  <a:lnTo>
                    <a:pt x="290" y="76"/>
                  </a:lnTo>
                  <a:lnTo>
                    <a:pt x="275" y="76"/>
                  </a:lnTo>
                  <a:lnTo>
                    <a:pt x="229" y="68"/>
                  </a:lnTo>
                  <a:lnTo>
                    <a:pt x="198" y="68"/>
                  </a:lnTo>
                  <a:lnTo>
                    <a:pt x="175" y="61"/>
                  </a:lnTo>
                  <a:lnTo>
                    <a:pt x="137" y="53"/>
                  </a:lnTo>
                  <a:lnTo>
                    <a:pt x="107" y="53"/>
                  </a:lnTo>
                  <a:lnTo>
                    <a:pt x="84" y="46"/>
                  </a:lnTo>
                  <a:lnTo>
                    <a:pt x="53" y="38"/>
                  </a:lnTo>
                  <a:lnTo>
                    <a:pt x="38" y="38"/>
                  </a:lnTo>
                  <a:lnTo>
                    <a:pt x="0" y="30"/>
                  </a:lnTo>
                  <a:lnTo>
                    <a:pt x="0" y="374"/>
                  </a:lnTo>
                  <a:lnTo>
                    <a:pt x="38" y="382"/>
                  </a:lnTo>
                  <a:lnTo>
                    <a:pt x="53" y="382"/>
                  </a:lnTo>
                  <a:lnTo>
                    <a:pt x="84" y="389"/>
                  </a:lnTo>
                  <a:lnTo>
                    <a:pt x="107" y="397"/>
                  </a:lnTo>
                  <a:lnTo>
                    <a:pt x="137" y="397"/>
                  </a:lnTo>
                  <a:lnTo>
                    <a:pt x="175" y="405"/>
                  </a:lnTo>
                  <a:lnTo>
                    <a:pt x="198" y="412"/>
                  </a:lnTo>
                  <a:lnTo>
                    <a:pt x="229" y="412"/>
                  </a:lnTo>
                  <a:lnTo>
                    <a:pt x="275" y="420"/>
                  </a:lnTo>
                  <a:lnTo>
                    <a:pt x="290" y="420"/>
                  </a:lnTo>
                  <a:lnTo>
                    <a:pt x="328" y="428"/>
                  </a:lnTo>
                  <a:lnTo>
                    <a:pt x="351" y="428"/>
                  </a:lnTo>
                  <a:lnTo>
                    <a:pt x="389" y="435"/>
                  </a:lnTo>
                  <a:lnTo>
                    <a:pt x="435" y="435"/>
                  </a:lnTo>
                  <a:lnTo>
                    <a:pt x="450" y="443"/>
                  </a:lnTo>
                  <a:lnTo>
                    <a:pt x="496" y="443"/>
                  </a:lnTo>
                  <a:lnTo>
                    <a:pt x="519" y="443"/>
                  </a:lnTo>
                  <a:lnTo>
                    <a:pt x="557" y="450"/>
                  </a:lnTo>
                  <a:lnTo>
                    <a:pt x="603" y="450"/>
                  </a:lnTo>
                  <a:lnTo>
                    <a:pt x="626" y="450"/>
                  </a:lnTo>
                  <a:lnTo>
                    <a:pt x="664" y="450"/>
                  </a:lnTo>
                  <a:lnTo>
                    <a:pt x="710" y="458"/>
                  </a:lnTo>
                  <a:lnTo>
                    <a:pt x="733" y="458"/>
                  </a:lnTo>
                  <a:lnTo>
                    <a:pt x="779" y="458"/>
                  </a:lnTo>
                  <a:lnTo>
                    <a:pt x="802" y="458"/>
                  </a:lnTo>
                  <a:lnTo>
                    <a:pt x="840" y="458"/>
                  </a:lnTo>
                  <a:lnTo>
                    <a:pt x="886" y="458"/>
                  </a:lnTo>
                  <a:lnTo>
                    <a:pt x="909" y="458"/>
                  </a:lnTo>
                  <a:lnTo>
                    <a:pt x="954" y="458"/>
                  </a:lnTo>
                  <a:lnTo>
                    <a:pt x="970" y="458"/>
                  </a:lnTo>
                  <a:lnTo>
                    <a:pt x="1016" y="450"/>
                  </a:lnTo>
                  <a:lnTo>
                    <a:pt x="1061" y="450"/>
                  </a:lnTo>
                  <a:lnTo>
                    <a:pt x="1084" y="450"/>
                  </a:lnTo>
                  <a:lnTo>
                    <a:pt x="1122" y="450"/>
                  </a:lnTo>
                  <a:lnTo>
                    <a:pt x="1145" y="443"/>
                  </a:lnTo>
                  <a:lnTo>
                    <a:pt x="1191" y="443"/>
                  </a:lnTo>
                  <a:lnTo>
                    <a:pt x="1229" y="443"/>
                  </a:lnTo>
                  <a:lnTo>
                    <a:pt x="1252" y="435"/>
                  </a:lnTo>
                  <a:lnTo>
                    <a:pt x="1291" y="435"/>
                  </a:lnTo>
                  <a:lnTo>
                    <a:pt x="1336" y="428"/>
                  </a:lnTo>
                  <a:lnTo>
                    <a:pt x="1352" y="428"/>
                  </a:lnTo>
                  <a:lnTo>
                    <a:pt x="1390" y="420"/>
                  </a:lnTo>
                  <a:lnTo>
                    <a:pt x="1413" y="420"/>
                  </a:lnTo>
                  <a:lnTo>
                    <a:pt x="1451" y="412"/>
                  </a:lnTo>
                  <a:lnTo>
                    <a:pt x="1489" y="412"/>
                  </a:lnTo>
                  <a:lnTo>
                    <a:pt x="1504" y="405"/>
                  </a:lnTo>
                  <a:lnTo>
                    <a:pt x="1543" y="397"/>
                  </a:lnTo>
                  <a:lnTo>
                    <a:pt x="1566" y="397"/>
                  </a:lnTo>
                  <a:lnTo>
                    <a:pt x="1596" y="389"/>
                  </a:lnTo>
                  <a:lnTo>
                    <a:pt x="1634" y="382"/>
                  </a:lnTo>
                  <a:lnTo>
                    <a:pt x="1650" y="382"/>
                  </a:lnTo>
                  <a:lnTo>
                    <a:pt x="1680" y="374"/>
                  </a:lnTo>
                  <a:lnTo>
                    <a:pt x="1718" y="366"/>
                  </a:lnTo>
                  <a:lnTo>
                    <a:pt x="1734" y="359"/>
                  </a:lnTo>
                  <a:lnTo>
                    <a:pt x="1764" y="351"/>
                  </a:lnTo>
                  <a:lnTo>
                    <a:pt x="1772" y="351"/>
                  </a:lnTo>
                  <a:lnTo>
                    <a:pt x="1802" y="344"/>
                  </a:lnTo>
                  <a:lnTo>
                    <a:pt x="1802" y="0"/>
                  </a:lnTo>
                  <a:close/>
                </a:path>
              </a:pathLst>
            </a:custGeom>
            <a:solidFill>
              <a:srgbClr val="6853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47800" y="5030280"/>
              <a:ext cx="2860560" cy="475200"/>
            </a:xfrm>
            <a:custGeom>
              <a:avLst/>
              <a:gdLst/>
              <a:ahLst/>
              <a:rect l="l" t="t" r="r" b="b"/>
              <a:pathLst>
                <a:path w="1802" h="328">
                  <a:moveTo>
                    <a:pt x="1802" y="214"/>
                  </a:moveTo>
                  <a:lnTo>
                    <a:pt x="1772" y="221"/>
                  </a:lnTo>
                  <a:lnTo>
                    <a:pt x="1764" y="221"/>
                  </a:lnTo>
                  <a:lnTo>
                    <a:pt x="1734" y="229"/>
                  </a:lnTo>
                  <a:lnTo>
                    <a:pt x="1718" y="237"/>
                  </a:lnTo>
                  <a:lnTo>
                    <a:pt x="1680" y="244"/>
                  </a:lnTo>
                  <a:lnTo>
                    <a:pt x="1650" y="252"/>
                  </a:lnTo>
                  <a:lnTo>
                    <a:pt x="1634" y="252"/>
                  </a:lnTo>
                  <a:lnTo>
                    <a:pt x="1596" y="260"/>
                  </a:lnTo>
                  <a:lnTo>
                    <a:pt x="1566" y="267"/>
                  </a:lnTo>
                  <a:lnTo>
                    <a:pt x="1543" y="267"/>
                  </a:lnTo>
                  <a:lnTo>
                    <a:pt x="1504" y="275"/>
                  </a:lnTo>
                  <a:lnTo>
                    <a:pt x="1489" y="282"/>
                  </a:lnTo>
                  <a:lnTo>
                    <a:pt x="1451" y="282"/>
                  </a:lnTo>
                  <a:lnTo>
                    <a:pt x="1413" y="290"/>
                  </a:lnTo>
                  <a:lnTo>
                    <a:pt x="1390" y="290"/>
                  </a:lnTo>
                  <a:lnTo>
                    <a:pt x="1352" y="298"/>
                  </a:lnTo>
                  <a:lnTo>
                    <a:pt x="1336" y="298"/>
                  </a:lnTo>
                  <a:lnTo>
                    <a:pt x="1291" y="305"/>
                  </a:lnTo>
                  <a:lnTo>
                    <a:pt x="1252" y="305"/>
                  </a:lnTo>
                  <a:lnTo>
                    <a:pt x="1229" y="313"/>
                  </a:lnTo>
                  <a:lnTo>
                    <a:pt x="1191" y="313"/>
                  </a:lnTo>
                  <a:lnTo>
                    <a:pt x="1145" y="313"/>
                  </a:lnTo>
                  <a:lnTo>
                    <a:pt x="1122" y="321"/>
                  </a:lnTo>
                  <a:lnTo>
                    <a:pt x="1084" y="321"/>
                  </a:lnTo>
                  <a:lnTo>
                    <a:pt x="1061" y="321"/>
                  </a:lnTo>
                  <a:lnTo>
                    <a:pt x="1016" y="321"/>
                  </a:lnTo>
                  <a:lnTo>
                    <a:pt x="970" y="328"/>
                  </a:lnTo>
                  <a:lnTo>
                    <a:pt x="954" y="328"/>
                  </a:lnTo>
                  <a:lnTo>
                    <a:pt x="909" y="328"/>
                  </a:lnTo>
                  <a:lnTo>
                    <a:pt x="886" y="328"/>
                  </a:lnTo>
                  <a:lnTo>
                    <a:pt x="840" y="328"/>
                  </a:lnTo>
                  <a:lnTo>
                    <a:pt x="802" y="328"/>
                  </a:lnTo>
                  <a:lnTo>
                    <a:pt x="779" y="328"/>
                  </a:lnTo>
                  <a:lnTo>
                    <a:pt x="733" y="328"/>
                  </a:lnTo>
                  <a:lnTo>
                    <a:pt x="710" y="328"/>
                  </a:lnTo>
                  <a:lnTo>
                    <a:pt x="664" y="321"/>
                  </a:lnTo>
                  <a:lnTo>
                    <a:pt x="626" y="321"/>
                  </a:lnTo>
                  <a:lnTo>
                    <a:pt x="603" y="321"/>
                  </a:lnTo>
                  <a:lnTo>
                    <a:pt x="557" y="321"/>
                  </a:lnTo>
                  <a:lnTo>
                    <a:pt x="519" y="313"/>
                  </a:lnTo>
                  <a:lnTo>
                    <a:pt x="496" y="313"/>
                  </a:lnTo>
                  <a:lnTo>
                    <a:pt x="450" y="313"/>
                  </a:lnTo>
                  <a:lnTo>
                    <a:pt x="435" y="305"/>
                  </a:lnTo>
                  <a:lnTo>
                    <a:pt x="389" y="305"/>
                  </a:lnTo>
                  <a:lnTo>
                    <a:pt x="351" y="298"/>
                  </a:lnTo>
                  <a:lnTo>
                    <a:pt x="328" y="298"/>
                  </a:lnTo>
                  <a:lnTo>
                    <a:pt x="290" y="290"/>
                  </a:lnTo>
                  <a:lnTo>
                    <a:pt x="275" y="290"/>
                  </a:lnTo>
                  <a:lnTo>
                    <a:pt x="229" y="282"/>
                  </a:lnTo>
                  <a:lnTo>
                    <a:pt x="198" y="282"/>
                  </a:lnTo>
                  <a:lnTo>
                    <a:pt x="175" y="275"/>
                  </a:lnTo>
                  <a:lnTo>
                    <a:pt x="137" y="267"/>
                  </a:lnTo>
                  <a:lnTo>
                    <a:pt x="107" y="267"/>
                  </a:lnTo>
                  <a:lnTo>
                    <a:pt x="84" y="260"/>
                  </a:lnTo>
                  <a:lnTo>
                    <a:pt x="53" y="252"/>
                  </a:lnTo>
                  <a:lnTo>
                    <a:pt x="38" y="252"/>
                  </a:lnTo>
                  <a:lnTo>
                    <a:pt x="0" y="244"/>
                  </a:lnTo>
                  <a:lnTo>
                    <a:pt x="840" y="0"/>
                  </a:lnTo>
                  <a:lnTo>
                    <a:pt x="1802" y="214"/>
                  </a:lnTo>
                  <a:close/>
                </a:path>
              </a:pathLst>
            </a:custGeom>
            <a:solidFill>
              <a:srgbClr val="d0a6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2400" y="455328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28920" y="47300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9360" y="6047640"/>
              <a:ext cx="11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/Re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11240" y="6225840"/>
              <a:ext cx="110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al Cent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00040" y="6402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320" y="5483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u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21280" y="566064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93280" y="5838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43600" y="42994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27920" y="44762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9560" y="46533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90760" y="420984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l Oth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0" y="4388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080" y="397764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origi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4600" y="415476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6640" y="43326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78280" y="655776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7600" y="6579720"/>
              <a:ext cx="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D59-2BDA-4A0C-8450-030F28FAFD90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7848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Demand for On-Site Assista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62593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86400" y="1550880"/>
            <a:ext cx="276048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2240" y="1550880"/>
            <a:ext cx="180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31040" y="1550880"/>
            <a:ext cx="144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46880" y="1550880"/>
            <a:ext cx="180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86400" y="1550880"/>
            <a:ext cx="2760480" cy="38991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86400" y="1550880"/>
            <a:ext cx="130320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86400" y="1873080"/>
            <a:ext cx="117288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86400" y="2195640"/>
            <a:ext cx="787320" cy="336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0" y="2532240"/>
            <a:ext cx="60624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0" y="2854440"/>
            <a:ext cx="55404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6400" y="3178080"/>
            <a:ext cx="38736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0" y="3500280"/>
            <a:ext cx="37296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6400" y="3822840"/>
            <a:ext cx="29664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86400" y="4146480"/>
            <a:ext cx="218880" cy="3351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6400" y="4481640"/>
            <a:ext cx="21888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4805280"/>
            <a:ext cx="12852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86400" y="5127480"/>
            <a:ext cx="12852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89600" y="1550880"/>
            <a:ext cx="145728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59280" y="1873080"/>
            <a:ext cx="151164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73720" y="2195640"/>
            <a:ext cx="1147680" cy="3366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92640" y="2532240"/>
            <a:ext cx="145728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0440" y="2854440"/>
            <a:ext cx="140652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73760" y="3178080"/>
            <a:ext cx="112212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9360" y="3500280"/>
            <a:ext cx="83988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83040" y="3822840"/>
            <a:ext cx="70956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5280" y="4146480"/>
            <a:ext cx="581040" cy="3351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5280" y="4481640"/>
            <a:ext cx="55404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4920" y="4805280"/>
            <a:ext cx="41256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4920" y="5127480"/>
            <a:ext cx="41256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0" y="5450040"/>
            <a:ext cx="27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86400" y="54500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2240" y="54500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31040" y="54500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346880" y="54500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6400" y="1550880"/>
            <a:ext cx="1440" cy="389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46440" y="15508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6440" y="18730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46440" y="21956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6440" y="25322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46440" y="28544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6440" y="31780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46440" y="35002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46440" y="38228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46440" y="41464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46440" y="44816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46440" y="48052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46440" y="51274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46440" y="54500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29880" y="55674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224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4248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5868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7080" y="1627200"/>
            <a:ext cx="169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Use of the 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0400" y="1916280"/>
            <a:ext cx="235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Use of computer 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9960" y="2273400"/>
            <a:ext cx="168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Searching for job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400" y="2597040"/>
            <a:ext cx="185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Feder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83880" y="2919240"/>
            <a:ext cx="2620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Provincial/Territori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5680" y="3241800"/>
            <a:ext cx="27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Municipal or Region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86040" y="357840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24120" y="390060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56560" y="4224240"/>
            <a:ext cx="1353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ing Web 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9040" y="4546440"/>
            <a:ext cx="178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ing Web site 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41280" y="4869000"/>
            <a:ext cx="253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Developing Web sites &amp; 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34160" y="5192640"/>
            <a:ext cx="244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Creating/Managing a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9440" y="5837400"/>
            <a:ext cx="1222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 of Respond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08560" y="6199200"/>
            <a:ext cx="1174680" cy="27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59320" y="6289560"/>
            <a:ext cx="77760" cy="777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45800" y="623880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24440" y="6289560"/>
            <a:ext cx="77760" cy="777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9560" y="623880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266-6557-4D0A-9BFB-B88F302A02ED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op 10 Services </a:t>
            </a:r>
            <a:br>
              <a:rPr sz="3200"/>
            </a:b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        Most Often Reques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989000"/>
            <a:ext cx="8205840" cy="380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0520" y="2087640"/>
            <a:ext cx="44910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0520" y="2087640"/>
            <a:ext cx="4491000" cy="3044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0520" y="2087640"/>
            <a:ext cx="391464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0520" y="2395440"/>
            <a:ext cx="3740040" cy="295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0520" y="2690640"/>
            <a:ext cx="272088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0520" y="3000240"/>
            <a:ext cx="2265480" cy="3081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0520" y="3308400"/>
            <a:ext cx="214452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0520" y="3616200"/>
            <a:ext cx="1433520" cy="295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0520" y="3911760"/>
            <a:ext cx="120636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0520" y="4219560"/>
            <a:ext cx="111276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0520" y="4529160"/>
            <a:ext cx="1112760" cy="2937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0520" y="4822920"/>
            <a:ext cx="101772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0520" y="5132520"/>
            <a:ext cx="449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005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4348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8644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30840" y="5132160"/>
            <a:ext cx="180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36120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00416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6471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82915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0520" y="2087640"/>
            <a:ext cx="1440" cy="30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46520" y="20876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6520" y="23954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6520" y="26906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46520" y="30002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6520" y="3308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6520" y="361620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46520" y="39117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46520" y="4219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6520" y="45291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46520" y="48229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46520" y="51325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96520" y="2128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5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3360" y="24368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4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04200" y="27320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9520" y="30402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28920" y="3348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17920" y="36561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89320" y="39513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95720" y="42609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95720" y="45687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1760" y="48639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93320" y="5280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3836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8276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2572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8840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3136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7576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1872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8160" y="2128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65280" y="24368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to e-ma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17600" y="274464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ining/Assis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68200" y="304020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b Searching/Care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84840" y="3348000"/>
            <a:ext cx="1500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/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43120" y="365616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-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9840" y="39654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ume Prepa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18440" y="4260960"/>
            <a:ext cx="176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 Support/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10760" y="4568760"/>
            <a:ext cx="232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ucation/Academic assis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6960" y="4876920"/>
            <a:ext cx="300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/Accessing services/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13400" y="4408560"/>
            <a:ext cx="1233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81960" y="4421160"/>
            <a:ext cx="70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(n=2,5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342-7B79-4F00-BFFE-A8474EBB6EED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arget Groups/Clients Serv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50% of CAP Sites identified the following as target grou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th  - 8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iors  - 75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Seekers  - 70%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with low income - 69%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with limited education  - 5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3C3-002F-4C61-809C-20C842A43FC6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CAP Successes                                                                   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Tahoma"/>
              </a:rPr>
              <a:t>(CAP 2004-2005 Surve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475640" y="2924280"/>
            <a:ext cx="3220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Clients Serv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in 2004/05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30686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49080" y="30686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1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3080" y="328464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61080" y="3284640"/>
            <a:ext cx="108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,075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74560" y="3860640"/>
            <a:ext cx="3173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Repeat User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38606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93800" y="3933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64360" y="407664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05440" y="414972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,346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6200" y="4653000"/>
            <a:ext cx="2836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Volunte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or 2004/0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64000" y="4724280"/>
            <a:ext cx="90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ull-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4720" y="47242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,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4941720"/>
            <a:ext cx="93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t-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720" y="4941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,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502-3DC5-4D8C-8EEA-2B88E433DE0F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More CAP Succe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2005 BearingPoint cost-benefit analyses estimated CAP created 17,928 jobs from 1994 to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14,520 in direct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3,408 in indirect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quantifiable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creased social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mproved productivity from I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local business development – training of entrepreneurs, business web sites stimulated 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923-938F-4644-8127-81AD7EDE4D09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    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CAP Success Factor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491920"/>
            <a:ext cx="770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unity-based grassroots ownership – federal government a catalyst,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Locally-identified assets, needs an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ong partnerships with other federal departments, different levels of government,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that are integrated into the social and economic life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2133720"/>
            <a:ext cx="76532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ultiple Partners, Leveraging and 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286-E85B-4B8B-B997-9D36DDCAD46F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8172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f01"/>
                </a:solidFill>
                <a:latin typeface="Tahoma"/>
              </a:rPr>
              <a:t>   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CAP Success Factors (con’t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3141720"/>
            <a:ext cx="77011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ervices respond to needs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bility to leverage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ong voluntee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itted partners who share the managemen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levant local information at the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ser &amp; equipmen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060640"/>
            <a:ext cx="7653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ultiple Partners, Leveraging and 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4DE-82E3-4D76-B7A0-BDC60C81CFFD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793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             </a:t>
            </a: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Key Elements Affecting</a:t>
            </a:r>
            <a:br>
              <a:rPr sz="2800"/>
            </a:b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           Success and Sustainabilit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81723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that reflect the continuing social and economic needs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itted partners who share the managemen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 shared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levant local information and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ser &amp; equipmen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recognized as an essential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261-A5CD-4D90-9A4D-BBD88A7EDFB9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6985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0" lang="en-CA" sz="4400" spc="-1" strike="noStrike">
                <a:solidFill>
                  <a:srgbClr val="00e4a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nada’s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Connecting Canadians 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itiative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was one of the first national strategies in the worl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esigned to expand access to information and communications technologies (I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he initiative centred on a set of Industry Canada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grams and initiatives, particularly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choolNe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mputers for School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ancommunautés virtuell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roadband for Rural and Northern Developmen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mmunity Access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8A2-A12A-4CF3-8F20-0D364A533F7A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03160" y="248760"/>
            <a:ext cx="6972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        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Serious Gaps Rem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ahoma"/>
              </a:rPr>
              <a:t>Many Canadians Still Face Barriers to ICT Infrastruc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28% of Canadians still do not use computers due to lack of acces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almost 50% of non-Internet users are unaware of its benefits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only 27</a:t>
            </a:r>
            <a:r>
              <a:rPr b="0" lang="en-CA" sz="17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 of households earning less than $23,000/year use the Internet, compared to 82% of households earning more than $70,000/year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26% of households with less than high school education use the Internet as compared with 82% of those with university degree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an estimated 80% of 3.6 million (12.4 %) Canadians with disabilities have never used a comput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barriers include distance, geography, affordability, digital literacy, disabilities and awarenes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99E-4ACF-46C7-86A8-0490726C6435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Role in E-Govern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204264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urrently examining how CAP can best support the government’s objective 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better, one-stop service to more Canadians in more comm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Work within mandate of host organizations of the CAP sites (e.g., community organizations, libraries, schools, Aboriginal organiz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vides tremendous potential to leverage wide public on-line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591-4A13-4651-994F-7D94D6EFF4C7}" type="slidenum">
              <a:t>21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7065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     </a:t>
            </a: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Relevant to Our Tim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These core programs and initiatives represent Industry Canada’s respons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economic transformation arising from the convergence of computers and communications technologies and the emergence of the Interne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growth and importance of new markets and work being shaped by information and communications technologies (ICTs) and the Interne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need to improve engagement of Canadians facing barriers to the Internet-enabled econom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450-F342-401D-BAB7-744052B7749B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8483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Connecting Canadians Suc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040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 achieved connectedness goals for education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public access and resear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country to connect schools &amp; libraries  to the Inter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50,000+ refurbished computers supplied to schools &amp; librar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 sites established in over 3,000 communiti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,000 grassroots collaborative classroom-based projects completed between 1996 and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5% of participating First Nations Schools connected to high speed Internet by March 31, 200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 Francommunautés virtuelles projects done since 19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band funded 58 projects encompassing 884 communities (including 116 First Nations communit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C85-1731-45C8-8E69-A6BAD59C006E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1" lang="en-CA" sz="3200" spc="-1" strike="noStrike">
                <a:solidFill>
                  <a:srgbClr val="ff0000"/>
                </a:solidFill>
                <a:latin typeface="Tahoma"/>
              </a:rPr>
              <a:t>Community Access Program</a:t>
            </a:r>
            <a:br>
              <a:rPr sz="3200"/>
            </a:br>
            <a:r>
              <a:rPr b="1" lang="en-CA" sz="3200" spc="-1" strike="noStrike">
                <a:solidFill>
                  <a:srgbClr val="ff0000"/>
                </a:solidFill>
                <a:latin typeface="Tahoma"/>
              </a:rPr>
              <a:t>                        (CAP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 federal government program to provide Canadians with affordable public access to the Internet and the skills to us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ilots in 1994, officially launched in 199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pproximately 4,000 CAP sites provide Internet access in libraries, community and educational centres, Aboriginal organizations and other public access si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tes provide staff to assist people in using computers and the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ccess is usually free, but there may be a nominal charge per hour or for each service (e.g., fee for printing or scanning a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haracteristics of each site vary widely (number of computers, focus for clientele ,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3DE-090E-4A58-9FAD-F0FCE85C6860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6156360" cy="11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e4a8"/>
                </a:solidFill>
                <a:latin typeface="Tahoma"/>
              </a:rPr>
              <a:t>Policy Context in 199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ny rural and remote communiti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d chronic high unem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ked the potential to create businesses and jobs in the innovative and growth sectors of the econom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ny rural Canadia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re not aware of the Internet and its potential benefi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uld not afford computers or Internet connectivity char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d not have the skills required to use information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re reluctant to use new technologies out of f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44D-02EF-479B-9CCF-01A9006D32CB}" type="slidenum">
              <a:t>6</a:t>
            </a:fld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Government’s Vision at the Ti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Highway: an important tool for community economic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 aim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bring the Information Highway to all Canad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alize access between advantaged and disadvantaged areas and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ster business and job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develop a strong computer literate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mulate the conversion of public services to electronic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citizens had skills to use on-line services 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39E-6A35-4ABC-ACC9-860B328EB7B0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47640" y="-360"/>
            <a:ext cx="4907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CAP History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ady growth in goals and expectations and a refocus to reflect progress in Internet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lo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5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1,0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1,5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5,0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8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additional 5,000 CAP sites in urba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focus of network to serve digital divid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ties – seniors, low income, low education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riginals, francophones, rural resi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resent: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staining some 4,000 CAP sites across countr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erving digital divide comm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4D5-9068-441E-9671-8E9267F900D2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70167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Delivered through Partnershi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originally chosen through a competitive process – community-based organizations submitted proposals for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ational Advisory Committee and Provincial/Territorial Review Commit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rmal agreements with other levels of government, school boards,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fter initial period of focus on growth in number of sties, for last several years, CAP focused on sustaining existing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C4C-6788-4F82-B644-B439B1EA3892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4:36:00Z</dcterms:created>
  <dc:creator>Industry Canada</dc:creator>
  <dc:description/>
  <dc:language>en-US</dc:language>
  <cp:lastModifiedBy>caroleoj</cp:lastModifiedBy>
  <dcterms:modified xsi:type="dcterms:W3CDTF">2007-07-04T13:37:5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4835755</vt:r8>
  </property>
  <property fmtid="{D5CDD505-2E9C-101B-9397-08002B2CF9AE}" pid="3" name="_AuthorEmail">
    <vt:lpwstr>Caroleo.Janet@ic.gc.ca</vt:lpwstr>
  </property>
  <property fmtid="{D5CDD505-2E9C-101B-9397-08002B2CF9AE}" pid="4" name="_AuthorEmailDisplayName">
    <vt:lpwstr>Caroleo, Janet: IHAB</vt:lpwstr>
  </property>
  <property fmtid="{D5CDD505-2E9C-101B-9397-08002B2CF9AE}" pid="5" name="_EmailSubject">
    <vt:lpwstr>ORO</vt:lpwstr>
  </property>
  <property fmtid="{D5CDD505-2E9C-101B-9397-08002B2CF9AE}" pid="6" name="_NewReviewCycle">
    <vt:lpwstr/>
  </property>
  <property fmtid="{D5CDD505-2E9C-101B-9397-08002B2CF9AE}" pid="7" name="_PreviousAdHocReviewCycleID">
    <vt:r8>-107970849</vt:r8>
  </property>
</Properties>
</file>